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5AEB94-E777-4053-8E07-92D72373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3A2AC-CA10-4089-8692-DF1E1C8D0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B23-2E17-4765-B833-51347A3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E6A-841B-41CC-94C5-4BC2916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264-F03F-4F2A-9A59-973E207D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24C-4379-40CD-9138-7F7925F2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809-42C2-4866-8005-BFB4695A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868-C71D-4642-987E-3219B22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8B92-40F3-4C3E-BB6F-2A7388D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5587-B2E7-4B14-8761-944C003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2B8-37CD-4908-B786-464F290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C1B9-0516-42F4-95BA-1AE446A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28E-C073-45DF-ABF8-321B107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915-3E90-4C7B-BFCA-51C3B079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A42-9645-4D34-B62B-EC035F38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1B8-3956-48CE-B4F5-E7AB588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C08-C66E-40E8-866D-1480527C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7773-4DA3-4291-80A4-CDA89F89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7DB-E7DC-4309-80F4-F1A2B285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65BF-60D0-4291-9A1C-8F6B127C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A90A-C58E-46EA-9830-35EE784A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1294-29D1-45EB-B12E-8B7AF57B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B93E-48E8-49F6-9FB9-21C01B83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9E66-51D3-4508-90A4-0187D305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EF5-06AA-42A0-BEB4-6D8F925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E92E-6200-4C16-B667-4F7FF37F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6896-5238-4D3C-A28F-9890115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3A9C-FC8F-4309-85A9-D927BF3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B13C-6928-4BB8-97A9-175ED87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60E0-A0E0-4EA2-987C-52006BE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B359-1546-46FB-AA1F-AE7C6AA8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9BD3-59B7-42BF-BA4C-8164920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95C3-8545-4E89-AC77-CB8FA5F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BE9E-2E68-4925-8EE6-3995948C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960E-BBBD-491F-BD53-19371612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C97-4DBF-45DC-9296-01B4A0C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5D77-0374-421A-9A6B-2D932EA2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2104-D9FE-43A2-900C-8A97B4F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8398-9C79-4E6E-9133-BF03F3B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942B-F20E-4D2B-8ADB-0845B5D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6CF5-F2CA-4F13-BD78-069BF950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570E-9FA9-4F2C-AEC9-C57F9BE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5533-6FAA-4C9A-B59D-0DBDB69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C45A-77C9-4BCD-B906-7CC837D0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F867-FE56-4DA2-A7FF-0F880069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440-764B-4298-BE86-4D33FEC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A62-A1E0-4CCB-850E-0F8D86B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941-F90A-4026-99DD-C794C48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37A-6201-4245-BEE7-2F96801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600-92AC-47A6-B888-917A909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3F8294-A30B-4518-AAA0-9514AA073E2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3E1AC4-BA30-4E2D-82B4-4F6C9613FF7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91D9F7A-B2C7-49E2-BF09-2CE9C8B75A0D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93B890A-9300-479A-9FC5-ED5F1AFB6C9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640" y="620640"/>
            <a:ext cx="813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Регистрационный номер: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Picture 2" descr="ÐÐ°ÑÑÐ¸Ð½ÐºÐ¸ Ð¿Ð¾ Ð·Ð°Ð¿ÑÐ¾ÑÑ ÑÐ¸ÑÑÐ½Ð¾Ðº Ð¿ÐµÑÐµÑÐ¾Ð´Ð½ÑÐ¹ Ð¿ÐµÑÐµÑÐ¾Ð´"/>
          <p:cNvPicPr/>
          <p:nvPr/>
        </p:nvPicPr>
        <p:blipFill>
          <a:blip r:embed="rId1"/>
          <a:stretch/>
        </p:blipFill>
        <p:spPr>
          <a:xfrm>
            <a:off x="0" y="1628640"/>
            <a:ext cx="9143640" cy="5229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683640" y="2062080"/>
            <a:ext cx="79923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Название проек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: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борник презентаций  по теме учебной программы «Пешеходные переходы и остановочные пункты маршрутных транспортных средств. Преимущество маршрутных транспортных средств. Железнодорожные переезды. Особые условия дв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Номинация проекта: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ОР  в профессиональном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036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</a:rPr>
              <a:t>Правила перевозки пассажиров на транспортных средствах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88640"/>
            <a:ext cx="6400440" cy="6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0" name="Picture 11" descr="IMAGE0002"/>
          <p:cNvPicPr/>
          <p:nvPr/>
        </p:nvPicPr>
        <p:blipFill>
          <a:blip r:embed="rId1"/>
          <a:stretch/>
        </p:blipFill>
        <p:spPr>
          <a:xfrm>
            <a:off x="179640" y="1989000"/>
            <a:ext cx="8640720" cy="475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43000" y="116640"/>
            <a:ext cx="640044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0" y="692640"/>
            <a:ext cx="9143640" cy="158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</a:rPr>
              <a:t>Пользование внешними световыми и звуковыми сигналами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23640" y="2000160"/>
            <a:ext cx="8280720" cy="4740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"/>
          <p:cNvSpPr/>
          <p:nvPr/>
        </p:nvSpPr>
        <p:spPr>
          <a:xfrm>
            <a:off x="1043640" y="116640"/>
            <a:ext cx="669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64036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3200" spc="-1" strike="noStrike">
                <a:solidFill>
                  <a:srgbClr val="0d79ca"/>
                </a:solidFill>
                <a:latin typeface="Times New Roman"/>
              </a:rPr>
              <a:t>Движение через железнодорожные пути</a:t>
            </a:r>
            <a:br>
              <a:rPr sz="20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3600"/>
            </a:br>
            <a:br>
              <a:rPr sz="2800"/>
            </a:br>
            <a:br>
              <a:rPr sz="54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6" name="Рисунок 3" descr="шлакбаум.jpg"/>
          <p:cNvPicPr/>
          <p:nvPr/>
        </p:nvPicPr>
        <p:blipFill>
          <a:blip r:embed="rId1"/>
          <a:stretch/>
        </p:blipFill>
        <p:spPr>
          <a:xfrm>
            <a:off x="0" y="1412640"/>
            <a:ext cx="9143640" cy="54450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3000" y="116640"/>
            <a:ext cx="640044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23. Перевозка грузов (ст.12.21, ч.1КоАП)"/>
          <p:cNvPicPr/>
          <p:nvPr/>
        </p:nvPicPr>
        <p:blipFill>
          <a:blip r:embed="rId1"/>
          <a:stretch/>
        </p:blipFill>
        <p:spPr>
          <a:xfrm>
            <a:off x="0" y="1052640"/>
            <a:ext cx="9143640" cy="580500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5832360" cy="11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ПЕРЕВОЗКА ГРУЗОВ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/>
          <p:cNvSpPr/>
          <p:nvPr/>
        </p:nvSpPr>
        <p:spPr>
          <a:xfrm>
            <a:off x="0" y="2756160"/>
            <a:ext cx="3709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1475640" y="1901520"/>
            <a:ext cx="6912360" cy="106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ехнически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icrosoft Pow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oi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107640" y="1340640"/>
            <a:ext cx="9036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едеральная целевая программа "Повышение безопасности дорожного движения в 2006-2012 годах”. http://gibdd.yar.ru/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шеход на дороге. /авт. М.Л. Форштат, А.П..Добровольская, А.В.Эпова, А.В.Новиков. – С-Пб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http://festival.1september.ru/articles/522182/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http://festival.1september.ru/articles/416430/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http://festival.1september.ru/articles/527281/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http://festival.1september.ru/articles/577878/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http://festival.1september.ru/articles/50016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1331640" y="260640"/>
            <a:ext cx="612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rebuchet MS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rebuchet MS"/>
              </a:rPr>
              <a:t>Источники матер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ÐÐ°ÑÑÐ¸Ð½ÐºÐ¸ Ð¿Ð¾ Ð·Ð°Ð¿ÑÐ¾ÑÑ Ð°Ð²ÑÐ¾Ð¼Ð¾Ð±Ð¸Ð»Ñ ÑÐ¾ÑÐ¾"/>
          <p:cNvPicPr/>
          <p:nvPr/>
        </p:nvPicPr>
        <p:blipFill>
          <a:blip r:embed="rId1"/>
          <a:stretch/>
        </p:blipFill>
        <p:spPr>
          <a:xfrm>
            <a:off x="0" y="0"/>
            <a:ext cx="6444000" cy="68576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3636000" y="188640"/>
            <a:ext cx="5507640" cy="71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rebuchet MS"/>
              </a:rPr>
              <a:t>Заклю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борник включает в себя презентации для всех уроков данной темы учебной программы.  Материалы могут быть рекомендованы для применения в процессе  обучения в учреждениях образования, реализующих образовательные программы профессионально – технического образования, осуществляющих подготовку по квалификации 3-37 01 52-51 «Водитель автомоби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539640" y="447120"/>
            <a:ext cx="813672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Автор проект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каева Жанна Евгеньевна, преподаватель высшей квалификационной катег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реждение образования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ловский государственный профессиональный лицей №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Trebuchet MS"/>
              </a:rPr>
              <a:t>Актуальность: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необходимость приобретения обучающимися знаний и умений в области правил и безопасности дорожного движения, которые они будут использовать в своей повседневной жизни, вне зависимости от дальнейшей профессиональной деятельности.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Trebuchet MS"/>
              </a:rPr>
              <a:t>Цель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Развитие у обучающихся стремления к осознанному изучению правил дорожного движения с целью их выполнения и обеспечения безопасности дорожного движения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42472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rebuchet MS"/>
              </a:rPr>
              <a:t>Задач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Формирование у обучающихся активности, профессиональных интересов, творческих способностей, логического мышления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Формирование у обучающихся способности и готовности к самостоятельному принятию правовых решений, сознательному и ответственному действию в сфере отношений, урегулированных правом, развитие гражданско-правовой активности, ответственности, правосознания, правовой культуры, навыков правомерного поведения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спитание у обучающихся чувства строгого выполнения требований дорожных знаков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Формирование социально-защищенной личности водителя путем повышения мотивации к изучению предме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08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rebuchet MS"/>
              </a:rPr>
              <a:t>Новизна и инновационность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спользование презентаций на уроке улучшает усвоение нового материала, позволяет учащимся легче воспринимать подаваемую таким образом информацию, увеличивает активность на уроке, позволяет экономить время и дает возможность решения большего числа задач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http://gnti.ru/imgdump/4522-gnti-ZZQK685z98Y.jpg"/>
          <p:cNvPicPr/>
          <p:nvPr/>
        </p:nvPicPr>
        <p:blipFill>
          <a:blip r:embed="rId1"/>
          <a:stretch/>
        </p:blipFill>
        <p:spPr>
          <a:xfrm>
            <a:off x="95040" y="116640"/>
            <a:ext cx="2376000" cy="273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http://www.cars.ru/static/imagecache/content_images_750x563/files/magazine/images/20153961/7f15cad8bdde8be910754a2b1ce2207a.jpg"/>
          <p:cNvPicPr/>
          <p:nvPr/>
        </p:nvPicPr>
        <p:blipFill>
          <a:blip r:embed="rId2"/>
          <a:stretch/>
        </p:blipFill>
        <p:spPr>
          <a:xfrm>
            <a:off x="6481080" y="5013000"/>
            <a:ext cx="248328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Таблица 7"/>
          <p:cNvGraphicFramePr/>
          <p:nvPr/>
        </p:nvGraphicFramePr>
        <p:xfrm>
          <a:off x="251640" y="4797000"/>
          <a:ext cx="6400440" cy="80568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0">
                <a:tc>
                  <a:txBody>
                    <a:bodyPr anchor="ctr">
                      <a:noAutofit/>
                    </a:bodyPr>
                    <a:p>
                      <a:endParaRPr b="0" lang="ru-RU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endParaRPr b="0" lang="ru-RU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"/>
          <p:cNvSpPr/>
          <p:nvPr/>
        </p:nvSpPr>
        <p:spPr>
          <a:xfrm>
            <a:off x="2411640" y="489600"/>
            <a:ext cx="6552360" cy="521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вижение через железнодорожн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авила перевозки пассажиров на транспортных средст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оезд пешеходных переходов и остановок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авила проезда пешеходных пер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Буксировка механических 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Движение в жилых зо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ользование внешними световыми и звуковыми приб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Перевозка гр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267840"/>
            <a:ext cx="91436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467640" y="908640"/>
            <a:ext cx="82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d79ca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d79ca"/>
                </a:solidFill>
                <a:latin typeface="Times New Roman"/>
              </a:rPr>
              <a:t>Движение в жилых зо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http://xn--80aaagl8ahknbd5b5e.xn--p1ai/images/stories/theme_17/tema17_im05.jpg"/>
          <p:cNvPicPr/>
          <p:nvPr/>
        </p:nvPicPr>
        <p:blipFill>
          <a:blip r:embed="rId1"/>
          <a:srcRect l="0" t="0" r="0" b="6481"/>
          <a:stretch/>
        </p:blipFill>
        <p:spPr>
          <a:xfrm>
            <a:off x="179640" y="1700640"/>
            <a:ext cx="885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251640" y="188640"/>
            <a:ext cx="871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ставление блоков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pdd_199"/>
          <p:cNvPicPr/>
          <p:nvPr/>
        </p:nvPicPr>
        <p:blipFill>
          <a:blip r:embed="rId1"/>
          <a:stretch/>
        </p:blipFill>
        <p:spPr>
          <a:xfrm>
            <a:off x="179640" y="908640"/>
            <a:ext cx="9072720" cy="5949000"/>
          </a:xfrm>
          <a:prstGeom prst="rect">
            <a:avLst/>
          </a:prstGeom>
          <a:ln w="9525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826920" y="979560"/>
            <a:ext cx="784836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d79ca"/>
                </a:solidFill>
                <a:latin typeface="Times New Roman"/>
              </a:rPr>
              <a:t>БУКСИРОВКА МЕХАНИЧЕСКИХ</a:t>
            </a:r>
            <a:br>
              <a:rPr sz="3200"/>
            </a:br>
            <a:r>
              <a:rPr b="1" lang="ru-RU" sz="3200" spc="-1" strike="noStrike">
                <a:solidFill>
                  <a:srgbClr val="0d79ca"/>
                </a:solidFill>
                <a:latin typeface="Times New Roman"/>
              </a:rPr>
              <a:t>ТРАНСПОРТНЫХ СРЕДСТВ</a:t>
            </a:r>
            <a:r>
              <a:rPr b="0" lang="ru-RU" sz="3200" spc="-1" strike="noStrike">
                <a:solidFill>
                  <a:srgbClr val="0d79c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386</TotalTime>
  <Application>LibreOffice/7.4.7.2$Linux_X86_64 LibreOffice_project/40$Build-2</Application>
  <AppVersion>15.0000</AppVersion>
  <Words>246</Words>
  <Paragraphs>46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6:34:47Z</dcterms:created>
  <dc:creator>Наталья</dc:creator>
  <dc:description/>
  <dc:language>en-US</dc:language>
  <cp:lastModifiedBy>Дом</cp:lastModifiedBy>
  <dcterms:modified xsi:type="dcterms:W3CDTF">2019-01-30T17:17:29Z</dcterms:modified>
  <cp:revision>3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