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E75-8A46-481B-A1F9-904D62CA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258-DFB5-489A-8167-57A553B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45F-0FFE-4C3F-BF80-74C29339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958-6295-4519-B263-EBFC29D6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4963-0522-45F0-804A-87A928DE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49C9-501A-4369-9617-0F3ED24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C10-9FAA-4B32-838B-558E16B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9CB-4FAE-47C4-BA30-35CF3E4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BFA5-DAA2-48A3-A34C-023D33F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4C4-F836-4C53-A499-A9A455A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389-51BA-4165-80E5-4076B2D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088-3845-45DA-954E-799BE8FC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C2F-842E-4CD6-B265-2173954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571-3052-46FB-B810-1B96AD1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088D-8CEC-43BC-B7C1-F5E6254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AFE-EEE0-4A36-BB91-0536BE46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19D-05DF-4A81-B484-9E34255A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E4BC-933D-4887-95DD-CF717724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F50F-5040-4D68-9D6E-2AB939F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4F4F-4C78-43C7-9F1C-89F211A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8C48-D4A7-4F22-BFC8-F559BB9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0E1D-AC16-4A10-A02A-B6DE0B8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9D4-1AE0-458C-86DE-D9F9C619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1D76-2EC1-47BE-A030-900EA4F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14C3-4757-42DB-B228-F115C91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9FB1-E6F5-4832-A199-61E2822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F48C-BD82-4C86-B6D5-37CB257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69B2-9431-4B10-9E53-249F562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0CBC-215F-4FBF-BFEE-244ECAC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52F3-7EB6-4ACB-9996-95405846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68D3-6E34-4368-AF8B-3730A9A1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4A27-683D-4195-B53A-E635DDD8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AC7F-412A-4F23-A62E-148E6364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2FF-195A-4C2A-B0E2-68F67E2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C0D4-71E3-4516-9351-4124A6C5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AB79-FA42-4937-925A-31D3E3AD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EFC3-2DF0-4053-81A5-1DCCF83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D77E-185C-4D31-9CBC-D5D8F27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69D8-15DF-46BD-A4E9-A6951B7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5370-860E-4DE9-9E86-5414AC6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DAB7-D488-44E6-A7F6-C4714A4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290F-9F5E-42BE-8C8B-85D22B7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9A83-0C55-4C7D-93CD-AB43908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4DB-6026-44D7-B1AF-2D04989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8B1-6261-471E-85A0-B71E725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C7A-2D94-4638-BAB3-FF4B80E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442-9F0A-4F60-8A18-12147B6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9D2-24B7-49F8-9A16-CDCF3B0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4AF-8160-4DBA-A7AB-E9C61773A0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DCD-29A3-4E40-9AF9-ED63F2A3F3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0149-597A-4B0E-8BB6-53CCA5DA02D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A2F7-C238-4F6F-AD25-8139BB332DD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826920" y="240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КСИРОВКА МЕХАНИЧЕСКИ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ПОР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dd_199"/>
          <p:cNvPicPr/>
          <p:nvPr/>
        </p:nvPicPr>
        <p:blipFill>
          <a:blip r:embed="rId1"/>
          <a:stretch/>
        </p:blipFill>
        <p:spPr>
          <a:xfrm>
            <a:off x="179280" y="227160"/>
            <a:ext cx="8785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pdd_200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32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ddpj_22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4:16:06Z</dcterms:created>
  <dc:creator>Al</dc:creator>
  <dc:description/>
  <dc:language>en-US</dc:language>
  <cp:lastModifiedBy>Дом</cp:lastModifiedBy>
  <dcterms:modified xsi:type="dcterms:W3CDTF">2019-01-30T17:17:41Z</dcterms:modified>
  <cp:revision>16</cp:revision>
  <dc:subject/>
  <dc:title>Слайд 1</dc:title>
</cp:coreProperties>
</file>