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8EF-414B-4805-B184-4414EA8E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60B-C6CE-40CA-9EFA-C5805A1C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D78-5A55-4234-BDEA-8FCD5BE6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4C6-4E1C-45D1-860F-4FFE6BBD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D2E-82B5-4D03-9BA5-1729659D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161-79BC-484D-926C-27BCAA38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69F-DF2B-4175-8C4E-86BE9634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C0B-816E-425D-94B4-3BFD0993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5A3-5A46-45C2-8433-BF330D12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418-7C26-4E7C-AEA5-4B6892BB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DAC-8A38-478B-8A2D-8BC9631E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B4D-6E7D-4D3E-9918-64470179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2F8B-3820-44F3-B4E1-11BE676613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ользование внешними световыми и звуковыми сигнал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Расположение световых приборов на автомобиле УА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2000160" y="2000160"/>
            <a:ext cx="3786120" cy="3660840"/>
          </a:xfrm>
          <a:prstGeom prst="rect">
            <a:avLst/>
          </a:prstGeom>
          <a:ln w="0">
            <a:noFill/>
          </a:ln>
        </p:spPr>
      </p:pic>
      <p:cxnSp>
        <p:nvCxnSpPr>
          <p:cNvPr id="148" name="Прямая со стрелкой 7"/>
          <p:cNvCxnSpPr/>
          <p:nvPr/>
        </p:nvCxnSpPr>
        <p:spPr>
          <a:xfrm flipH="1">
            <a:off x="4428720" y="3357720"/>
            <a:ext cx="2000880" cy="10008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9" name="Прямая со стрелкой 9"/>
          <p:cNvCxnSpPr/>
          <p:nvPr/>
        </p:nvCxnSpPr>
        <p:spPr>
          <a:xfrm flipH="1">
            <a:off x="2499840" y="3357720"/>
            <a:ext cx="3929760" cy="1072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50" name="Прямая со стрелкой 20"/>
          <p:cNvCxnSpPr/>
          <p:nvPr/>
        </p:nvCxnSpPr>
        <p:spPr>
          <a:xfrm flipV="1">
            <a:off x="2213640" y="5071680"/>
            <a:ext cx="500760" cy="9295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51" name="Прямая со стрелкой 22"/>
          <p:cNvCxnSpPr/>
          <p:nvPr/>
        </p:nvCxnSpPr>
        <p:spPr>
          <a:xfrm flipV="1">
            <a:off x="2214360" y="5071680"/>
            <a:ext cx="2215080" cy="9295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52" name="TextBox 24"/>
          <p:cNvSpPr/>
          <p:nvPr/>
        </p:nvSpPr>
        <p:spPr>
          <a:xfrm>
            <a:off x="2013120" y="6000840"/>
            <a:ext cx="254916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ротивотуманные фа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25"/>
          <p:cNvSpPr/>
          <p:nvPr/>
        </p:nvSpPr>
        <p:spPr>
          <a:xfrm>
            <a:off x="6433560" y="3143160"/>
            <a:ext cx="72324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а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Прямая со стрелкой 63"/>
          <p:cNvCxnSpPr/>
          <p:nvPr/>
        </p:nvCxnSpPr>
        <p:spPr>
          <a:xfrm flipH="1" flipV="1">
            <a:off x="4571280" y="4714560"/>
            <a:ext cx="2143800" cy="21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55" name="Прямая со стрелкой 65"/>
          <p:cNvCxnSpPr/>
          <p:nvPr/>
        </p:nvCxnSpPr>
        <p:spPr>
          <a:xfrm flipH="1" flipV="1">
            <a:off x="4571280" y="4857480"/>
            <a:ext cx="2143800" cy="7149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56" name="TextBox 66"/>
          <p:cNvSpPr/>
          <p:nvPr/>
        </p:nvSpPr>
        <p:spPr>
          <a:xfrm>
            <a:off x="6716880" y="4572000"/>
            <a:ext cx="224712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Указатели поворо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7"/>
          <p:cNvSpPr/>
          <p:nvPr/>
        </p:nvSpPr>
        <p:spPr>
          <a:xfrm>
            <a:off x="6718680" y="5429160"/>
            <a:ext cx="183744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Габаритные ог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68"/>
          <p:cNvSpPr/>
          <p:nvPr/>
        </p:nvSpPr>
        <p:spPr>
          <a:xfrm>
            <a:off x="3429000" y="392904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70"/>
          <p:cNvSpPr/>
          <p:nvPr/>
        </p:nvSpPr>
        <p:spPr>
          <a:xfrm>
            <a:off x="3357720" y="3929040"/>
            <a:ext cx="142560" cy="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ая соединительная линия 72"/>
          <p:cNvSpPr/>
          <p:nvPr/>
        </p:nvSpPr>
        <p:spPr>
          <a:xfrm flipV="1">
            <a:off x="3499560" y="3857400"/>
            <a:ext cx="14292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Табличка 3"/>
          <p:cNvSpPr/>
          <p:nvPr/>
        </p:nvSpPr>
        <p:spPr>
          <a:xfrm>
            <a:off x="1071720" y="1428840"/>
            <a:ext cx="7143480" cy="1428840"/>
          </a:xfrm>
          <a:custGeom>
            <a:avLst/>
            <a:gdLst>
              <a:gd name="textAreaLeft" fmla="*/ 168120 w 7143480"/>
              <a:gd name="textAreaRight" fmla="*/ 6975360 w 7143480"/>
              <a:gd name="textAreaTop" fmla="*/ 168120 h 1428840"/>
              <a:gd name="textAreaBottom" fmla="*/ 1260720 h 1428840"/>
            </a:gdLst>
            <a:ahLst/>
            <a:rect l="textAreaLeft" t="textAreaTop" r="textAreaRight" b="textAreaBottom"/>
            <a:pathLst>
              <a:path w="107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4367" y="21600"/>
                </a:lnTo>
                <a:arcTo wR="3600" hR="3600" stAng="10800000" swAng="5400000"/>
                <a:lnTo>
                  <a:pt x="107967" y="3600"/>
                </a:lnTo>
                <a:arcTo wR="3600" hR="3600" stAng="5400000" swAng="5400000"/>
                <a:close/>
              </a:path>
            </a:pathLst>
          </a:custGeom>
          <a:solidFill>
            <a:srgbClr val="0d0d0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Включение каких внешних световых приборов обеспечит Вам наилучшую видимость дороги при движении ночью во время сильной метел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Управляющая кнопка: настраиваемая 7"/>
          <p:cNvSpPr/>
          <p:nvPr/>
        </p:nvSpPr>
        <p:spPr>
          <a:xfrm>
            <a:off x="428760" y="4857840"/>
            <a:ext cx="8215200" cy="1285920"/>
          </a:xfrm>
          <a:custGeom>
            <a:avLst/>
            <a:gdLst>
              <a:gd name="textAreaLeft" fmla="*/ 83160 w 8215200"/>
              <a:gd name="textAreaRight" fmla="*/ 8132040 w 8215200"/>
              <a:gd name="textAreaTop" fmla="*/ 83160 h 1285920"/>
              <a:gd name="textAreaBottom" fmla="*/ 1202760 h 1285920"/>
            </a:gdLst>
            <a:ahLst/>
            <a:rect l="textAreaLeft" t="textAreaTop" r="textAreaRight" b="textAreaBottom"/>
            <a:pathLst>
              <a:path w="137961" h="21600">
                <a:moveTo>
                  <a:pt x="0" y="0"/>
                </a:moveTo>
                <a:lnTo>
                  <a:pt x="137961" y="0"/>
                </a:lnTo>
                <a:lnTo>
                  <a:pt x="137961" y="21600"/>
                </a:lnTo>
                <a:lnTo>
                  <a:pt x="0" y="21600"/>
                </a:lnTo>
                <a:close/>
              </a:path>
              <a:path fill="lightenLess" w="137961" h="21600">
                <a:moveTo>
                  <a:pt x="0" y="0"/>
                </a:moveTo>
                <a:lnTo>
                  <a:pt x="137961" y="0"/>
                </a:lnTo>
                <a:lnTo>
                  <a:pt x="136561" y="1400"/>
                </a:lnTo>
                <a:lnTo>
                  <a:pt x="1400" y="1400"/>
                </a:lnTo>
                <a:close/>
              </a:path>
              <a:path fill="darken" w="137961" h="21600">
                <a:moveTo>
                  <a:pt x="137961" y="0"/>
                </a:moveTo>
                <a:lnTo>
                  <a:pt x="137961" y="21600"/>
                </a:lnTo>
                <a:lnTo>
                  <a:pt x="136561" y="20200"/>
                </a:lnTo>
                <a:lnTo>
                  <a:pt x="136561" y="1400"/>
                </a:lnTo>
                <a:close/>
              </a:path>
              <a:path fill="darkenLess" w="137961" h="21600">
                <a:moveTo>
                  <a:pt x="13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561" y="20200"/>
                </a:lnTo>
                <a:close/>
              </a:path>
              <a:path fill="lighten" w="13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2. В таких условиях целесообразно использовать включение противотуманных фар совместно с ближним светом фар, т.к. дальний свет фар будет создавать слепящее действие и ухудшит видим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314360" y="3214800"/>
            <a:ext cx="63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1) Противотуманные фары совместно с дальним светом фа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312200" y="3643200"/>
            <a:ext cx="63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2) Противотуманные фары совместно с ближним светом фа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Заголовок 1"/>
          <p:cNvSpPr/>
          <p:nvPr/>
        </p:nvSpPr>
        <p:spPr>
          <a:xfrm>
            <a:off x="500040" y="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Экзаменационные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Табличка 3"/>
          <p:cNvSpPr/>
          <p:nvPr/>
        </p:nvSpPr>
        <p:spPr>
          <a:xfrm>
            <a:off x="1071720" y="1428840"/>
            <a:ext cx="7143480" cy="1428840"/>
          </a:xfrm>
          <a:custGeom>
            <a:avLst/>
            <a:gdLst>
              <a:gd name="textAreaLeft" fmla="*/ 168120 w 7143480"/>
              <a:gd name="textAreaRight" fmla="*/ 6975360 w 7143480"/>
              <a:gd name="textAreaTop" fmla="*/ 168120 h 1428840"/>
              <a:gd name="textAreaBottom" fmla="*/ 1260720 h 1428840"/>
            </a:gdLst>
            <a:ahLst/>
            <a:rect l="textAreaLeft" t="textAreaTop" r="textAreaRight" b="textAreaBottom"/>
            <a:pathLst>
              <a:path w="107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4367" y="21600"/>
                </a:lnTo>
                <a:arcTo wR="3600" hR="3600" stAng="10800000" swAng="5400000"/>
                <a:lnTo>
                  <a:pt x="107967" y="3600"/>
                </a:lnTo>
                <a:arcTo wR="3600" hR="3600" stAng="5400000" swAng="5400000"/>
                <a:close/>
              </a:path>
            </a:pathLst>
          </a:custGeom>
          <a:solidFill>
            <a:srgbClr val="0d0d0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ри остановке и стоянке на неосвещённых участках дорог в тёмное время суток Вы долж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500040" y="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Экзаменационные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1303200" y="321480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1) Включить габаритные ог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1302120" y="3643200"/>
            <a:ext cx="33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2) Включить ближний свет фа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1308240" y="4071960"/>
            <a:ext cx="42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3) Выставить знак аварийной останов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Внешние световые приборы Т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-143280" y="1000080"/>
            <a:ext cx="33577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К внешним световым приборам относят габаритные огни, фары ближнего и дальнего света, указатели поворотов, противотуманные фары, задние противотуманные фонари, сигналы торможения (основные и дополнительные), фонари заднего хода и фонари освещения регистрационного знака. Сзади на автомобилях устанавливаются также световозвращатели (катафоты) красного цвета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1" descr="D:\ПДД 2006\data\theory\pdd\images\013_3.gif"/>
          <p:cNvPicPr/>
          <p:nvPr/>
        </p:nvPicPr>
        <p:blipFill>
          <a:blip r:embed="rId1"/>
          <a:stretch/>
        </p:blipFill>
        <p:spPr>
          <a:xfrm>
            <a:off x="3786120" y="714240"/>
            <a:ext cx="4500720" cy="8575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D:\ПДД 2006\data\theory\pdd\images\013_4.gif"/>
          <p:cNvPicPr/>
          <p:nvPr/>
        </p:nvPicPr>
        <p:blipFill>
          <a:blip r:embed="rId2"/>
          <a:stretch/>
        </p:blipFill>
        <p:spPr>
          <a:xfrm>
            <a:off x="3786120" y="1785960"/>
            <a:ext cx="464364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6"/>
          <p:cNvSpPr/>
          <p:nvPr/>
        </p:nvSpPr>
        <p:spPr>
          <a:xfrm>
            <a:off x="3357720" y="2643120"/>
            <a:ext cx="5786280" cy="421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D:\ПДД 2006\data\theory\pdd\images\Tabl-2.gif"/>
          <p:cNvPicPr/>
          <p:nvPr/>
        </p:nvPicPr>
        <p:blipFill>
          <a:blip r:embed="rId3"/>
          <a:stretch/>
        </p:blipFill>
        <p:spPr>
          <a:xfrm>
            <a:off x="3357720" y="2635200"/>
            <a:ext cx="5786280" cy="422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равила пользования внешними световыми приборами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во время дви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42920" y="714240"/>
          <a:ext cx="8596440" cy="6042240"/>
        </p:xfrm>
        <a:graphic>
          <a:graphicData uri="http://schemas.openxmlformats.org/drawingml/2006/table">
            <a:tbl>
              <a:tblPr/>
              <a:tblGrid>
                <a:gridCol w="1228680"/>
                <a:gridCol w="1057320"/>
                <a:gridCol w="1398600"/>
                <a:gridCol w="1227240"/>
                <a:gridCol w="1228680"/>
                <a:gridCol w="1226880"/>
                <a:gridCol w="1229040"/>
              </a:tblGrid>
              <a:tr h="26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окраще-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Н.П. – населённый пун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ветлое время су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ветлое время суток, недостаточ-ная вид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ёмное время суток, искусственное освеще-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ёмное время суток, нет искусственного осве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ёмное время суток, недостаточная видимость, искусственное осве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ёмное время суток, недостаточная видимость, нет искусственного осве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жний свет ф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1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льний свет ф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 Н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тиво-туманные ф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тиво-туманные фона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0" name="Плюс 6"/>
          <p:cNvSpPr/>
          <p:nvPr/>
        </p:nvSpPr>
        <p:spPr>
          <a:xfrm>
            <a:off x="1643040" y="3500280"/>
            <a:ext cx="42876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люс 7"/>
          <p:cNvSpPr/>
          <p:nvPr/>
        </p:nvSpPr>
        <p:spPr>
          <a:xfrm>
            <a:off x="7858080" y="3500280"/>
            <a:ext cx="42876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люс 8"/>
          <p:cNvSpPr/>
          <p:nvPr/>
        </p:nvSpPr>
        <p:spPr>
          <a:xfrm>
            <a:off x="6643800" y="3500280"/>
            <a:ext cx="42840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люс 9"/>
          <p:cNvSpPr/>
          <p:nvPr/>
        </p:nvSpPr>
        <p:spPr>
          <a:xfrm>
            <a:off x="5429160" y="3500280"/>
            <a:ext cx="42876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люс 10"/>
          <p:cNvSpPr/>
          <p:nvPr/>
        </p:nvSpPr>
        <p:spPr>
          <a:xfrm>
            <a:off x="4214880" y="3500280"/>
            <a:ext cx="42840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люс 11"/>
          <p:cNvSpPr/>
          <p:nvPr/>
        </p:nvSpPr>
        <p:spPr>
          <a:xfrm>
            <a:off x="2857680" y="3500280"/>
            <a:ext cx="42840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люс 12"/>
          <p:cNvSpPr/>
          <p:nvPr/>
        </p:nvSpPr>
        <p:spPr>
          <a:xfrm>
            <a:off x="6715080" y="4214880"/>
            <a:ext cx="428760" cy="42840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люс 13"/>
          <p:cNvSpPr/>
          <p:nvPr/>
        </p:nvSpPr>
        <p:spPr>
          <a:xfrm>
            <a:off x="5429160" y="4214880"/>
            <a:ext cx="428760" cy="42840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люс 14"/>
          <p:cNvSpPr/>
          <p:nvPr/>
        </p:nvSpPr>
        <p:spPr>
          <a:xfrm>
            <a:off x="2857680" y="4286160"/>
            <a:ext cx="42840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люс 15"/>
          <p:cNvSpPr/>
          <p:nvPr/>
        </p:nvSpPr>
        <p:spPr>
          <a:xfrm>
            <a:off x="7858080" y="4214880"/>
            <a:ext cx="428760" cy="42840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инус 16"/>
          <p:cNvSpPr/>
          <p:nvPr/>
        </p:nvSpPr>
        <p:spPr>
          <a:xfrm>
            <a:off x="1643040" y="428616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инус 19"/>
          <p:cNvSpPr/>
          <p:nvPr/>
        </p:nvSpPr>
        <p:spPr>
          <a:xfrm>
            <a:off x="4572000" y="4071960"/>
            <a:ext cx="357120" cy="357120"/>
          </a:xfrm>
          <a:custGeom>
            <a:avLst/>
            <a:gdLst/>
            <a:ahLst/>
            <a:rect l="l" t="t" r="r" b="b"/>
            <a:pathLst>
              <a:path w="357190" h="357190">
                <a:moveTo>
                  <a:pt x="47346" y="136589"/>
                </a:moveTo>
                <a:lnTo>
                  <a:pt x="309844" y="136589"/>
                </a:lnTo>
                <a:lnTo>
                  <a:pt x="309844" y="220601"/>
                </a:lnTo>
                <a:lnTo>
                  <a:pt x="47346" y="220601"/>
                </a:lnTo>
                <a:lnTo>
                  <a:pt x="47346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люс 20"/>
          <p:cNvSpPr/>
          <p:nvPr/>
        </p:nvSpPr>
        <p:spPr>
          <a:xfrm>
            <a:off x="4572000" y="4429080"/>
            <a:ext cx="357120" cy="357120"/>
          </a:xfrm>
          <a:custGeom>
            <a:avLst/>
            <a:gdLst/>
            <a:ahLst/>
            <a:rect l="l" t="t" r="r" b="b"/>
            <a:pathLst>
              <a:path w="357190" h="357190">
                <a:moveTo>
                  <a:pt x="47346" y="136589"/>
                </a:moveTo>
                <a:lnTo>
                  <a:pt x="136589" y="136589"/>
                </a:lnTo>
                <a:lnTo>
                  <a:pt x="136589" y="47346"/>
                </a:lnTo>
                <a:lnTo>
                  <a:pt x="220601" y="47346"/>
                </a:lnTo>
                <a:lnTo>
                  <a:pt x="220601" y="136589"/>
                </a:lnTo>
                <a:lnTo>
                  <a:pt x="309844" y="136589"/>
                </a:lnTo>
                <a:lnTo>
                  <a:pt x="309844" y="220601"/>
                </a:lnTo>
                <a:lnTo>
                  <a:pt x="220601" y="220601"/>
                </a:lnTo>
                <a:lnTo>
                  <a:pt x="220601" y="309844"/>
                </a:lnTo>
                <a:lnTo>
                  <a:pt x="136589" y="309844"/>
                </a:lnTo>
                <a:lnTo>
                  <a:pt x="136589" y="220601"/>
                </a:lnTo>
                <a:lnTo>
                  <a:pt x="47346" y="220601"/>
                </a:lnTo>
                <a:lnTo>
                  <a:pt x="47346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люс 21"/>
          <p:cNvSpPr/>
          <p:nvPr/>
        </p:nvSpPr>
        <p:spPr>
          <a:xfrm>
            <a:off x="1643040" y="5072040"/>
            <a:ext cx="42876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люс 22"/>
          <p:cNvSpPr/>
          <p:nvPr/>
        </p:nvSpPr>
        <p:spPr>
          <a:xfrm>
            <a:off x="2857680" y="5072040"/>
            <a:ext cx="42840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люс 23"/>
          <p:cNvSpPr/>
          <p:nvPr/>
        </p:nvSpPr>
        <p:spPr>
          <a:xfrm>
            <a:off x="5429160" y="5072040"/>
            <a:ext cx="42876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люс 24"/>
          <p:cNvSpPr/>
          <p:nvPr/>
        </p:nvSpPr>
        <p:spPr>
          <a:xfrm>
            <a:off x="7858080" y="5072040"/>
            <a:ext cx="42876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люс 25"/>
          <p:cNvSpPr/>
          <p:nvPr/>
        </p:nvSpPr>
        <p:spPr>
          <a:xfrm>
            <a:off x="6715080" y="5072040"/>
            <a:ext cx="42876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27"/>
          <p:cNvSpPr/>
          <p:nvPr/>
        </p:nvSpPr>
        <p:spPr>
          <a:xfrm>
            <a:off x="2428920" y="714240"/>
            <a:ext cx="0" cy="600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инус 31"/>
          <p:cNvSpPr/>
          <p:nvPr/>
        </p:nvSpPr>
        <p:spPr>
          <a:xfrm>
            <a:off x="4214880" y="514368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инус 32"/>
          <p:cNvSpPr/>
          <p:nvPr/>
        </p:nvSpPr>
        <p:spPr>
          <a:xfrm>
            <a:off x="4214880" y="614376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инус 33"/>
          <p:cNvSpPr/>
          <p:nvPr/>
        </p:nvSpPr>
        <p:spPr>
          <a:xfrm>
            <a:off x="1643040" y="614376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инус 34"/>
          <p:cNvSpPr/>
          <p:nvPr/>
        </p:nvSpPr>
        <p:spPr>
          <a:xfrm>
            <a:off x="5429160" y="614376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люс 35"/>
          <p:cNvSpPr/>
          <p:nvPr/>
        </p:nvSpPr>
        <p:spPr>
          <a:xfrm>
            <a:off x="7858080" y="6072120"/>
            <a:ext cx="42876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люс 36"/>
          <p:cNvSpPr/>
          <p:nvPr/>
        </p:nvSpPr>
        <p:spPr>
          <a:xfrm>
            <a:off x="6715080" y="6072120"/>
            <a:ext cx="42876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люс 37"/>
          <p:cNvSpPr/>
          <p:nvPr/>
        </p:nvSpPr>
        <p:spPr>
          <a:xfrm>
            <a:off x="2857680" y="6072120"/>
            <a:ext cx="42840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38"/>
          <p:cNvSpPr/>
          <p:nvPr/>
        </p:nvSpPr>
        <p:spPr>
          <a:xfrm>
            <a:off x="1357200" y="714240"/>
            <a:ext cx="0" cy="600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39"/>
          <p:cNvSpPr/>
          <p:nvPr/>
        </p:nvSpPr>
        <p:spPr>
          <a:xfrm>
            <a:off x="3857760" y="714240"/>
            <a:ext cx="0" cy="600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40"/>
          <p:cNvSpPr/>
          <p:nvPr/>
        </p:nvSpPr>
        <p:spPr>
          <a:xfrm flipH="1">
            <a:off x="7500960" y="714240"/>
            <a:ext cx="1440" cy="600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ая соединительная линия 41"/>
          <p:cNvSpPr/>
          <p:nvPr/>
        </p:nvSpPr>
        <p:spPr>
          <a:xfrm flipH="1">
            <a:off x="6286680" y="714240"/>
            <a:ext cx="1440" cy="600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ая соединительная линия 42"/>
          <p:cNvSpPr/>
          <p:nvPr/>
        </p:nvSpPr>
        <p:spPr>
          <a:xfrm flipH="1">
            <a:off x="5072040" y="714240"/>
            <a:ext cx="1440" cy="600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43"/>
          <p:cNvSpPr/>
          <p:nvPr/>
        </p:nvSpPr>
        <p:spPr>
          <a:xfrm>
            <a:off x="142920" y="714240"/>
            <a:ext cx="0" cy="600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44"/>
          <p:cNvSpPr/>
          <p:nvPr/>
        </p:nvSpPr>
        <p:spPr>
          <a:xfrm flipH="1">
            <a:off x="8714880" y="714240"/>
            <a:ext cx="1800" cy="600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я соединительная линия 46"/>
          <p:cNvSpPr/>
          <p:nvPr/>
        </p:nvSpPr>
        <p:spPr>
          <a:xfrm>
            <a:off x="142920" y="714240"/>
            <a:ext cx="8572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47"/>
          <p:cNvSpPr/>
          <p:nvPr/>
        </p:nvSpPr>
        <p:spPr>
          <a:xfrm>
            <a:off x="142920" y="4071960"/>
            <a:ext cx="8572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48"/>
          <p:cNvSpPr/>
          <p:nvPr/>
        </p:nvSpPr>
        <p:spPr>
          <a:xfrm>
            <a:off x="142920" y="3357720"/>
            <a:ext cx="8572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49"/>
          <p:cNvSpPr/>
          <p:nvPr/>
        </p:nvSpPr>
        <p:spPr>
          <a:xfrm>
            <a:off x="142920" y="5786280"/>
            <a:ext cx="8572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50"/>
          <p:cNvSpPr/>
          <p:nvPr/>
        </p:nvSpPr>
        <p:spPr>
          <a:xfrm>
            <a:off x="142920" y="4786200"/>
            <a:ext cx="8572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51"/>
          <p:cNvSpPr/>
          <p:nvPr/>
        </p:nvSpPr>
        <p:spPr>
          <a:xfrm>
            <a:off x="142920" y="6715080"/>
            <a:ext cx="8572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авила пользования внешними световыми приборами                                           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во время остановки или стоя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42920" y="857160"/>
          <a:ext cx="8858160" cy="5807160"/>
        </p:xfrm>
        <a:graphic>
          <a:graphicData uri="http://schemas.openxmlformats.org/drawingml/2006/table">
            <a:tbl>
              <a:tblPr/>
              <a:tblGrid>
                <a:gridCol w="1724040"/>
                <a:gridCol w="928800"/>
                <a:gridCol w="1022040"/>
                <a:gridCol w="1095480"/>
                <a:gridCol w="1239840"/>
                <a:gridCol w="1387440"/>
                <a:gridCol w="1460520"/>
              </a:tblGrid>
              <a:tr h="30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вет-лое время су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ветлое время суток, недос-таточ-ная вид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ёмное время суток, искус-ствен-ное освеще-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ёмное время суток, нет искус-ственного освеще-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ёмное время суток, недоста-точная видимость, искус-ственное осве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ёмное время суток, недостаточ-ная видимость, нет искусствен-ного осве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баритные ог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жний с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тивоту-манные ф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тивоту-манные фона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вещение номерного зн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1" name="Минус 7"/>
          <p:cNvSpPr/>
          <p:nvPr/>
        </p:nvSpPr>
        <p:spPr>
          <a:xfrm>
            <a:off x="4071960" y="385776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инус 8"/>
          <p:cNvSpPr/>
          <p:nvPr/>
        </p:nvSpPr>
        <p:spPr>
          <a:xfrm>
            <a:off x="2071800" y="392904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инус 9"/>
          <p:cNvSpPr/>
          <p:nvPr/>
        </p:nvSpPr>
        <p:spPr>
          <a:xfrm>
            <a:off x="2071800" y="428616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инус 10"/>
          <p:cNvSpPr/>
          <p:nvPr/>
        </p:nvSpPr>
        <p:spPr>
          <a:xfrm>
            <a:off x="2071800" y="485784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инус 11"/>
          <p:cNvSpPr/>
          <p:nvPr/>
        </p:nvSpPr>
        <p:spPr>
          <a:xfrm>
            <a:off x="2071800" y="550080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инус 12"/>
          <p:cNvSpPr/>
          <p:nvPr/>
        </p:nvSpPr>
        <p:spPr>
          <a:xfrm>
            <a:off x="2071800" y="621504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инус 13"/>
          <p:cNvSpPr/>
          <p:nvPr/>
        </p:nvSpPr>
        <p:spPr>
          <a:xfrm>
            <a:off x="4071960" y="428616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инус 14"/>
          <p:cNvSpPr/>
          <p:nvPr/>
        </p:nvSpPr>
        <p:spPr>
          <a:xfrm>
            <a:off x="4071960" y="485784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инус 15"/>
          <p:cNvSpPr/>
          <p:nvPr/>
        </p:nvSpPr>
        <p:spPr>
          <a:xfrm>
            <a:off x="4071960" y="550080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инус 16"/>
          <p:cNvSpPr/>
          <p:nvPr/>
        </p:nvSpPr>
        <p:spPr>
          <a:xfrm>
            <a:off x="4071960" y="621504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инус 17"/>
          <p:cNvSpPr/>
          <p:nvPr/>
        </p:nvSpPr>
        <p:spPr>
          <a:xfrm>
            <a:off x="5286240" y="485784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инус 18"/>
          <p:cNvSpPr/>
          <p:nvPr/>
        </p:nvSpPr>
        <p:spPr>
          <a:xfrm>
            <a:off x="5286240" y="550080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инус 19"/>
          <p:cNvSpPr/>
          <p:nvPr/>
        </p:nvSpPr>
        <p:spPr>
          <a:xfrm>
            <a:off x="5286240" y="4286160"/>
            <a:ext cx="500040" cy="357120"/>
          </a:xfrm>
          <a:custGeom>
            <a:avLst/>
            <a:gdLst/>
            <a:ahLst/>
            <a:rect l="l" t="t" r="r" b="b"/>
            <a:pathLst>
              <a:path w="500066" h="357190">
                <a:moveTo>
                  <a:pt x="66284" y="136589"/>
                </a:moveTo>
                <a:lnTo>
                  <a:pt x="433782" y="136589"/>
                </a:lnTo>
                <a:lnTo>
                  <a:pt x="433782" y="220601"/>
                </a:lnTo>
                <a:lnTo>
                  <a:pt x="66284" y="220601"/>
                </a:lnTo>
                <a:lnTo>
                  <a:pt x="66284" y="1365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люс 20"/>
          <p:cNvSpPr/>
          <p:nvPr/>
        </p:nvSpPr>
        <p:spPr>
          <a:xfrm>
            <a:off x="5286240" y="3857760"/>
            <a:ext cx="428760" cy="42840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люс 21"/>
          <p:cNvSpPr/>
          <p:nvPr/>
        </p:nvSpPr>
        <p:spPr>
          <a:xfrm>
            <a:off x="3071880" y="3857760"/>
            <a:ext cx="428400" cy="42840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люс 22"/>
          <p:cNvSpPr/>
          <p:nvPr/>
        </p:nvSpPr>
        <p:spPr>
          <a:xfrm>
            <a:off x="3071880" y="4286160"/>
            <a:ext cx="42840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люс 23"/>
          <p:cNvSpPr/>
          <p:nvPr/>
        </p:nvSpPr>
        <p:spPr>
          <a:xfrm>
            <a:off x="3071880" y="4857840"/>
            <a:ext cx="428400" cy="42840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люс 24"/>
          <p:cNvSpPr/>
          <p:nvPr/>
        </p:nvSpPr>
        <p:spPr>
          <a:xfrm>
            <a:off x="3071880" y="5500800"/>
            <a:ext cx="428400" cy="42840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люс 25"/>
          <p:cNvSpPr/>
          <p:nvPr/>
        </p:nvSpPr>
        <p:spPr>
          <a:xfrm>
            <a:off x="3071880" y="6143760"/>
            <a:ext cx="428400" cy="42840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люс 26"/>
          <p:cNvSpPr/>
          <p:nvPr/>
        </p:nvSpPr>
        <p:spPr>
          <a:xfrm>
            <a:off x="8001000" y="3857760"/>
            <a:ext cx="428760" cy="42840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люс 27"/>
          <p:cNvSpPr/>
          <p:nvPr/>
        </p:nvSpPr>
        <p:spPr>
          <a:xfrm>
            <a:off x="6643800" y="3857760"/>
            <a:ext cx="428400" cy="42840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люс 28"/>
          <p:cNvSpPr/>
          <p:nvPr/>
        </p:nvSpPr>
        <p:spPr>
          <a:xfrm>
            <a:off x="6643800" y="4286160"/>
            <a:ext cx="42840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люс 29"/>
          <p:cNvSpPr/>
          <p:nvPr/>
        </p:nvSpPr>
        <p:spPr>
          <a:xfrm>
            <a:off x="6643800" y="4786200"/>
            <a:ext cx="42840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люс 30"/>
          <p:cNvSpPr/>
          <p:nvPr/>
        </p:nvSpPr>
        <p:spPr>
          <a:xfrm>
            <a:off x="6643800" y="5500800"/>
            <a:ext cx="428400" cy="42840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люс 31"/>
          <p:cNvSpPr/>
          <p:nvPr/>
        </p:nvSpPr>
        <p:spPr>
          <a:xfrm>
            <a:off x="6643800" y="6143760"/>
            <a:ext cx="428400" cy="42840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люс 32"/>
          <p:cNvSpPr/>
          <p:nvPr/>
        </p:nvSpPr>
        <p:spPr>
          <a:xfrm>
            <a:off x="5357880" y="6143760"/>
            <a:ext cx="428400" cy="42840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люс 33"/>
          <p:cNvSpPr/>
          <p:nvPr/>
        </p:nvSpPr>
        <p:spPr>
          <a:xfrm>
            <a:off x="8001000" y="4286160"/>
            <a:ext cx="42876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люс 34"/>
          <p:cNvSpPr/>
          <p:nvPr/>
        </p:nvSpPr>
        <p:spPr>
          <a:xfrm>
            <a:off x="8001000" y="6143760"/>
            <a:ext cx="428760" cy="42840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люс 35"/>
          <p:cNvSpPr/>
          <p:nvPr/>
        </p:nvSpPr>
        <p:spPr>
          <a:xfrm>
            <a:off x="8001000" y="5500800"/>
            <a:ext cx="428760" cy="42840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люс 36"/>
          <p:cNvSpPr/>
          <p:nvPr/>
        </p:nvSpPr>
        <p:spPr>
          <a:xfrm>
            <a:off x="8001000" y="4786200"/>
            <a:ext cx="428760" cy="428760"/>
          </a:xfrm>
          <a:custGeom>
            <a:avLst/>
            <a:gdLst/>
            <a:ahLst/>
            <a:rect l="l" t="t" r="r" b="b"/>
            <a:pathLst>
              <a:path w="428628" h="428628">
                <a:moveTo>
                  <a:pt x="56815" y="163907"/>
                </a:moveTo>
                <a:lnTo>
                  <a:pt x="163907" y="163907"/>
                </a:lnTo>
                <a:lnTo>
                  <a:pt x="163907" y="56815"/>
                </a:lnTo>
                <a:lnTo>
                  <a:pt x="264721" y="56815"/>
                </a:lnTo>
                <a:lnTo>
                  <a:pt x="264721" y="163907"/>
                </a:lnTo>
                <a:lnTo>
                  <a:pt x="371813" y="163907"/>
                </a:lnTo>
                <a:lnTo>
                  <a:pt x="371813" y="264721"/>
                </a:lnTo>
                <a:lnTo>
                  <a:pt x="264721" y="264721"/>
                </a:lnTo>
                <a:lnTo>
                  <a:pt x="264721" y="371813"/>
                </a:lnTo>
                <a:lnTo>
                  <a:pt x="163907" y="371813"/>
                </a:lnTo>
                <a:lnTo>
                  <a:pt x="163907" y="264721"/>
                </a:lnTo>
                <a:lnTo>
                  <a:pt x="56815" y="264721"/>
                </a:lnTo>
                <a:lnTo>
                  <a:pt x="56815" y="1639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ая соединительная линия 37"/>
          <p:cNvSpPr/>
          <p:nvPr/>
        </p:nvSpPr>
        <p:spPr>
          <a:xfrm>
            <a:off x="1857240" y="857160"/>
            <a:ext cx="0" cy="585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ая соединительная линия 42"/>
          <p:cNvSpPr/>
          <p:nvPr/>
        </p:nvSpPr>
        <p:spPr>
          <a:xfrm flipH="1">
            <a:off x="6143760" y="857160"/>
            <a:ext cx="1440" cy="585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ая соединительная линия 43"/>
          <p:cNvSpPr/>
          <p:nvPr/>
        </p:nvSpPr>
        <p:spPr>
          <a:xfrm flipH="1">
            <a:off x="4928760" y="857160"/>
            <a:ext cx="1800" cy="585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ая соединительная линия 44"/>
          <p:cNvSpPr/>
          <p:nvPr/>
        </p:nvSpPr>
        <p:spPr>
          <a:xfrm>
            <a:off x="3786120" y="857160"/>
            <a:ext cx="0" cy="585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ая соединительная линия 45"/>
          <p:cNvSpPr/>
          <p:nvPr/>
        </p:nvSpPr>
        <p:spPr>
          <a:xfrm>
            <a:off x="2786040" y="857160"/>
            <a:ext cx="0" cy="585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ая соединительная линия 46"/>
          <p:cNvSpPr/>
          <p:nvPr/>
        </p:nvSpPr>
        <p:spPr>
          <a:xfrm flipH="1">
            <a:off x="9000720" y="857160"/>
            <a:ext cx="1800" cy="585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ая соединительная линия 47"/>
          <p:cNvSpPr/>
          <p:nvPr/>
        </p:nvSpPr>
        <p:spPr>
          <a:xfrm flipH="1">
            <a:off x="7500960" y="857160"/>
            <a:ext cx="1440" cy="585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ая соединительная линия 48"/>
          <p:cNvSpPr/>
          <p:nvPr/>
        </p:nvSpPr>
        <p:spPr>
          <a:xfrm>
            <a:off x="142920" y="857160"/>
            <a:ext cx="0" cy="585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ая соединительная линия 49"/>
          <p:cNvSpPr/>
          <p:nvPr/>
        </p:nvSpPr>
        <p:spPr>
          <a:xfrm>
            <a:off x="142920" y="857160"/>
            <a:ext cx="8858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ая соединительная линия 52"/>
          <p:cNvSpPr/>
          <p:nvPr/>
        </p:nvSpPr>
        <p:spPr>
          <a:xfrm>
            <a:off x="142920" y="6715080"/>
            <a:ext cx="8858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ая соединительная линия 53"/>
          <p:cNvSpPr/>
          <p:nvPr/>
        </p:nvSpPr>
        <p:spPr>
          <a:xfrm>
            <a:off x="142920" y="5357880"/>
            <a:ext cx="885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ая соединительная линия 54"/>
          <p:cNvSpPr/>
          <p:nvPr/>
        </p:nvSpPr>
        <p:spPr>
          <a:xfrm>
            <a:off x="142920" y="6072120"/>
            <a:ext cx="8858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ая соединительная линия 55"/>
          <p:cNvSpPr/>
          <p:nvPr/>
        </p:nvSpPr>
        <p:spPr>
          <a:xfrm>
            <a:off x="142920" y="4714920"/>
            <a:ext cx="885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ая соединительная линия 56"/>
          <p:cNvSpPr/>
          <p:nvPr/>
        </p:nvSpPr>
        <p:spPr>
          <a:xfrm>
            <a:off x="142920" y="4286160"/>
            <a:ext cx="8858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57"/>
          <p:cNvSpPr/>
          <p:nvPr/>
        </p:nvSpPr>
        <p:spPr>
          <a:xfrm>
            <a:off x="142920" y="3857760"/>
            <a:ext cx="885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Фары ближнего и дальнего света во время дви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Фары дальнего или ближнего света должны быть включены в тёмное время суток или в условиях недостаточной видимости на всех механических ТС, фонари и фары – на велосипедах, фонари – на гужевых повозках. На прицепах и буксируемых ТС должны быть включены габаритные ог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Дальний свет фар необходимо переключить на  на ближний в населённых пунктах (если дорога неосвещена), при встречном разъезде не менее чем за 150 м. (также если водитель встречного ТС периодическим переключением фар покажет необходимость этого), а также во всех других случаях, когда есть вероятность ослепления водителей встречных ТС. В случае ослепления водитель должен включить аварийную световую сигнализацию и, не меняя полосы движения, снизить скорость и остановиться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Габаритные огни при стоянке или останов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1785960"/>
            <a:ext cx="892980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Габаритные огни должны быть включены при остановке или стоянке в тёмное время суток на неосвещённых участках дороги, а также в условиях недостаточной видимости. В условиях недостаточной видимости дополнительно к габаритным огням могут быть включены фары ближнего света, противотуманные фары и задние противотуманные фонар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Обозначение движущегося ТС при движении в светлое время сут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1428480"/>
            <a:ext cx="8929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и движении в светлое время суток с целью обозначения движущегося ТС ближний свет фар может быть включе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на мотоциклах и мопед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и движении в организованной транспортной колонн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на маршрутных ТС, движущихся по специально выделенной полосе навстречу основному потоку дви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и организованной перевозке групп де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и перевозке опасных, крупногабаритных и тяжеловесных груз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и буксировке механических ТС (на буксирующем ТС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– 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и движении вне населенных пун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785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ротивотуманные фар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28592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Противотуманные фары могут использоватьс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в условиях недостаточной видимости как отдельно, так и с ближним или дальним светом фар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в тёмное время суток на неосвещённых участках дорог совместно с ближним или дальним светом фар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Задние противотуманные фонари могут применяться только в условиях недостаточной видимости. Запрещается подключать задние противотуманные фонари к стоп-сигнала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ользование звуковыми сигнал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480" y="1571400"/>
            <a:ext cx="8443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Звуковые сигналы могут применяться тольк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–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для предупреждения других водителей о намерении произвести обгон вне населённых пунк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 случаях, когда это необходимо для предотвращения ДТП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7:46:25Z</dcterms:created>
  <dc:creator>user</dc:creator>
  <dc:description/>
  <dc:language>en-US</dc:language>
  <cp:lastModifiedBy>TMD User</cp:lastModifiedBy>
  <dcterms:modified xsi:type="dcterms:W3CDTF">2016-09-20T12:57:18Z</dcterms:modified>
  <cp:revision>32</cp:revision>
  <dc:subject/>
  <dc:title>Пользование внешними световыми и звуковыми сигналами</dc:title>
</cp:coreProperties>
</file>