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170-297D-409F-BABE-0A9A378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B89-3C40-4B05-A17E-FD218BE7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164-7738-4F41-BD43-EF19F177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9FC-46E6-4565-AE78-F369D1A5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E0F-E506-4931-B84E-5A6DE55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D64-E5B2-44AF-A8D6-A810E202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67A-16C8-489A-A83C-FEC4341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DEF-CE2E-4902-B160-4DBF61A3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767-D0A4-40E5-815B-6110D6F9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37B-7E17-4705-A3A6-A13AA57C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F14-7022-47C4-9E8C-B21EF66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58E-CA01-4722-960C-E57EEFA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407-E2F3-4F8B-9C96-CC0E6BA6F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ПДД к перевозке пассажиров на транспорт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безопасного поведения пассажиров в Д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IMAGE0006"/>
          <p:cNvPicPr/>
          <p:nvPr/>
        </p:nvPicPr>
        <p:blipFill>
          <a:blip r:embed="rId1">
            <a:lum bright="6000"/>
          </a:blip>
          <a:srcRect l="52" t="0" r="0" b="0"/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ДЕНИЕ ПАССАЖИРОВ ПРИ НЕИЗБЕЖНОСТИ ДОРОЖНО - ТРАНСПОРТНОГО ПРОИС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341360"/>
          <a:ext cx="8424720" cy="5237280"/>
        </p:xfrm>
        <a:graphic>
          <a:graphicData uri="http://schemas.openxmlformats.org/drawingml/2006/table">
            <a:tbl>
              <a:tblPr/>
              <a:tblGrid>
                <a:gridCol w="1522440"/>
                <a:gridCol w="1501560"/>
                <a:gridCol w="503280"/>
                <a:gridCol w="489744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пассаж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защ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упереться в переднюю пане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ереться плечом в спинку переднего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одок прижать к груди, а руками защитить го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схватиться за переднее си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ий у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киды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0"/>
          <p:cNvSpPr/>
          <p:nvPr/>
        </p:nvSpPr>
        <p:spPr>
          <a:xfrm>
            <a:off x="-5505840" y="90360"/>
            <a:ext cx="201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урок будет интересен учителям, активно применяющим в своей работе технологии КСО, различные методы мотивации и стимулирования деятельности учащихся. Урок показывает, каким образом можно реализовать интерактивные методы и приемы обучения в рамках предмета ОБ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454480" cy="1514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529272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34000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2305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Мерседес-Бенц"/>
          <p:cNvPicPr/>
          <p:nvPr/>
        </p:nvPicPr>
        <p:blipFill>
          <a:blip r:embed="rId3"/>
          <a:stretch/>
        </p:blipFill>
        <p:spPr>
          <a:xfrm>
            <a:off x="3059280" y="4508640"/>
            <a:ext cx="2233440" cy="169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5364000" y="522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2411280" y="5300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496800" y="1643040"/>
          <a:ext cx="4048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43040"/>
                    <a:ext cx="4048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Admin</cp:lastModifiedBy>
  <dcterms:modified xsi:type="dcterms:W3CDTF">2018-05-08T05:42:20Z</dcterms:modified>
  <cp:revision>14</cp:revision>
  <dc:subject/>
  <dc:title>Слайд 1</dc:title>
</cp:coreProperties>
</file>