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25DF-4854-4E2D-9002-446DEF91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D0D-471C-4ED4-B341-32C00E96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A821-C8CA-4756-A829-5362F38D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6132-96E4-4BDF-AE2A-3314BD56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9B75-8A3E-4D24-B9DA-E914EF25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FFF5-3218-4A33-8952-585036B4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3FB9-3A06-4868-812D-836E8B6D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B00A-BFD2-4D11-8145-09ED4D5E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1A38-470C-421C-B122-20F61E36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EA10-1818-4ACE-81F0-20175EF4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25E7-27D6-4FF8-B033-38B211A3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4FA1-DF88-439F-A8E2-E675EE24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9173-B479-419B-BCC2-9E47E17A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5CD3-2A85-4801-9B25-5A6C7380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8FF5-5081-4276-A469-28F820B1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AD3B-7117-4236-9E65-370FB050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2CEB-5042-4E04-886C-08B02050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A7D8C-38E9-446E-9175-128D46A8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E34A0-B7ED-4AE3-9B70-7F1548A8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E6E27-37A2-4EF5-834C-BB403DAD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4B5FA-57CF-40F0-A9E5-0AA2D428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0C150-56C1-41CC-B5B1-54A0A3D4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DFEB-4E3A-4394-81C0-9D9AFB82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F0B85-90C2-4C69-8F87-C319804B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2CF8F-CECE-443B-8C59-173B5017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5C4D5-E58E-4DA7-90B1-BEE4CEA0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FF0B1-C350-4775-93C3-E758EFFD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53211-C5F8-48F0-AB70-8D0C4E7D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BDFFA-F859-472F-8A8C-C0D50936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BFDD0-630E-4ABF-B155-ED9B56D8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F56A4-D094-4E08-99D3-61319954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3796C-EC09-4980-8715-0D571EDA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8B905-34CF-4A72-87EA-28BD1DE1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B184-7D9B-483E-A414-F5D564E4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19B29-3C14-433E-82B4-1EB66689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CF258-DA98-4C7D-974F-08593B20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F5CB2-5721-4B70-9808-C768A2BC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AB7C2-C4A2-46EE-8647-207D260A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B8312-F8A5-434F-BF49-1201A565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C1F13-1068-484F-8E75-45921414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9C1E1-20E4-47F3-8A0F-B9AC25A7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800AE-EA75-439A-9B51-50B433A1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46474-3AFC-475E-B91D-F102A42C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37049-7D7E-48A9-A4A2-1CF527A6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7888-4F5F-4AEF-8B62-3B392748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0A11B-3210-4A57-AEE0-83B61BA8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5B567-E86D-46C8-A5C9-C788A422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51B4A-DAE2-4165-B359-AF8525EB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89DDF-3DAE-4917-A20F-BD6FD5DB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F8560-A469-4459-B07E-768AE4C3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54501-249B-4B3F-A6FC-8E2C91BB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828F7-E66E-432F-8A81-262B5A84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15FF0-DE39-4020-93B2-79E7E238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FA8FB-19C4-4015-AAA8-EDCFDF08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87D27-862A-4112-BC89-B2E0582D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5D2A-1300-4E30-A573-4F4C19F1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E3E4D-BE45-4995-9195-9AA5BE91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214F7-9018-48DB-A1A6-6518389A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374E5-1543-454A-A33D-474F110B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C4D21-6CB5-4D60-A03E-D1209A86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2702C-2620-48E0-8D84-2CF9A6A2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70AFE-7B60-49C8-89FD-4653A59E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9B230-9E61-477B-AD1A-D25D673D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77B5D-63AC-49F5-A1D6-71DE1BE7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345F1-B3B6-47A1-95CE-D4B8B32C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93251-0111-45AD-AAEC-37CF2E63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CC26-5AB7-44C3-91FC-44E0A990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B95F0-15B4-412F-B0A7-2C89661B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CC550-289E-45F1-BB45-85AA63F7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549A8-384F-4929-A6FC-1F77783C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46254-9B76-4A96-8DF6-FD5AEECC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E5B0D-9F53-4FFE-8595-7876151A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DC9C6-5E1A-4D04-AFD5-025BEAFA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09EA7-454E-4644-8AC5-E4E71127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9F9BD-B0BE-4859-AFB8-8AFF3665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C0A2E-84E3-44B1-9D75-36F1497B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299F3-DB00-45E7-AE51-09CD4D4F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57E7-DBC0-4917-B165-40B140E1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CDE55-9A73-4688-82E8-732A38C0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95713-4A17-4358-89EB-335BA30E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82F26-8C25-4B30-AD0E-2CAAE2D7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CB0D3-F0DE-4031-8F9B-19EC1033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2EAF3-8B2E-4445-91B0-4EE43DE5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762E-A6CD-450B-AA94-E5F53AAE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5F30-D580-461B-AD22-AC15E7E5365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AB5B-E4BF-4DCA-8D19-DC5DC2F8558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32C4-9A5A-41AD-93DF-BBB51E57899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3D57-E244-4E4F-B991-F7EE5FA51E0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A883-AE04-4971-A021-E04140E44D6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5590-8D40-49DD-9787-37E3F74D3BC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8BB9-4B74-4F0B-A68E-7D904FBE885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pdd.by/pdd/ru/50.1/" TargetMode="External"/><Relationship Id="rId2" Type="http://schemas.openxmlformats.org/officeDocument/2006/relationships/hyperlink" Target="https://pdd.by/pdd/ru/50.2/" TargetMode="External"/><Relationship Id="rId3" Type="http://schemas.openxmlformats.org/officeDocument/2006/relationships/hyperlink" Target="https://pdd.by/pdd/ru/50/" TargetMode="External"/><Relationship Id="rId4" Type="http://schemas.openxmlformats.org/officeDocument/2006/relationships/hyperlink" Target="https://pdd.by/pdd/ru/106/" TargetMode="External"/><Relationship Id="rId5" Type="http://schemas.openxmlformats.org/officeDocument/2006/relationships/hyperlink" Target="https://pdd.by/pdd/ru/2.37/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0&amp;text=&#1087;&#1077;&#1096;&#1077;&#1093;&#1086;&#1076;&#1085;&#1099;&#1081;%20&#1089;&#1074;&#1077;&#1090;&#1086;&#1092;&#1086;&#1088;&amp;img_url=www.stroyland.biz/netcat_files/11/3/idn500_1_26.jpeg&amp;rpt=simage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iki.iteach.ru/images/7/7e/&#1057;-&#1086;&#1073;&#1088;_&#1086;&#1090;&#1089;&#1095;&#1105;&#1090;&#1086;&#1084;_&#1074;&#1088;&#1077;&#1084;.jpg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images03.olx.ru/ui/11/90/45/1302195839_185398545_10---.png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prv0.lori-images.net/peshehodnyi-perehod-0000136948-preview.jpg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www.idn500.ru/upload/svetoforb.jpg" TargetMode="External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austonian.com/images/img_lessauto.jpg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gavailer.ru/i/look/20100225215659.jpg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svetcom.ru/UserFiles/Image/reversivnyj_svetofor_2.jpg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moto-avto.net/uploads/posts/2009-11/1259353178_Na_kievskom_mostu_Patona_uberut_reversivnoe_dvizhenie.jpg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f1.mosfont.ru/photo/02/76/97/276974.jpg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dai.by/wp-content/uploads/2009/03/svetofor_06.jpg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rv0.lori-images.net/zheleznodorozhnyi-pereezd-0000766200-preview.jpg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www.rosat.org/images/stories/prod/pereezd_svet/pereezd_svet2.jpg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светофоров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6" name="Picture 6" descr="http://www.prikol.net/pic/funny/funny066.jpg"/>
          <p:cNvPicPr/>
          <p:nvPr/>
        </p:nvPicPr>
        <p:blipFill>
          <a:blip r:embed="rId1"/>
          <a:stretch/>
        </p:blipFill>
        <p:spPr>
          <a:xfrm>
            <a:off x="281160" y="2408400"/>
            <a:ext cx="3657600" cy="430992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"/>
          <p:cNvSpPr/>
          <p:nvPr/>
        </p:nvSpPr>
        <p:spPr>
          <a:xfrm>
            <a:off x="998640" y="291960"/>
            <a:ext cx="68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е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кловский государственный профессиональный лицей № 1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"/>
          <p:cNvSpPr/>
          <p:nvPr/>
        </p:nvSpPr>
        <p:spPr>
          <a:xfrm>
            <a:off x="5219640" y="4221000"/>
            <a:ext cx="3168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5"/>
          <p:cNvSpPr/>
          <p:nvPr/>
        </p:nvSpPr>
        <p:spPr>
          <a:xfrm>
            <a:off x="4932360" y="43736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чи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акосов С.В, преподав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03280" y="529920"/>
            <a:ext cx="818352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ной светофор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ные светофоры предназначены для регулирования движения речных судов. В основном используются для регулирования прохода судов через шлюзы. Такие светофоры имеют сигналы 2-х цветов — красного и зелёного. Различают дальние и ближние речные светофоры. Дальние светофоры разрешают или запрещают подход судов к шлюзу. Ближние светофоры устанавливаются непосредственно перед и внутри камеры шлюза на правой стороне по ходу движения судна. Они регулируют вход судов внутрь шлюзовой камеры и выход из неё. Следует отметить, что неработающий речной светофор (не горит ни один из сигналов) запрещает движение судо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73e87"/>
                </a:solidFill>
                <a:latin typeface="Adobe Garamond Pro"/>
              </a:rPr>
              <a:t>  </a:t>
            </a: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6" name="i-main-pic" descr="Описание: Картинка 8 из 1656"/>
          <p:cNvPicPr/>
          <p:nvPr/>
        </p:nvPicPr>
        <p:blipFill>
          <a:blip r:embed="rId1"/>
          <a:stretch/>
        </p:blipFill>
        <p:spPr>
          <a:xfrm>
            <a:off x="1352520" y="3992400"/>
            <a:ext cx="3152880" cy="1854360"/>
          </a:xfrm>
          <a:prstGeom prst="rect">
            <a:avLst/>
          </a:prstGeom>
          <a:ln w="0">
            <a:noFill/>
          </a:ln>
        </p:spPr>
      </p:pic>
      <p:pic>
        <p:nvPicPr>
          <p:cNvPr id="367" name="i-main-pic" descr="Описание: Картинка 19 из 4148"/>
          <p:cNvPicPr/>
          <p:nvPr/>
        </p:nvPicPr>
        <p:blipFill>
          <a:blip r:embed="rId2"/>
          <a:stretch/>
        </p:blipFill>
        <p:spPr>
          <a:xfrm>
            <a:off x="5492880" y="3992400"/>
            <a:ext cx="2230200" cy="176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1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1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1197000"/>
            <a:ext cx="7408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572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фо́р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русск. свет и греч. φορός — «несущий») — устройство оптической сигнализации, предназначенное для регулирования движения людей, велосипедов, автомобилей и иных участников дорожного движения, поездов железной дороги и метро, речных и морских судов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2880" indent="4572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 в мире светофором был вращающийся газовый фонарь, который излучал сигналы красного и зеленого цветов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2880" indent="4572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светофор был установлен в Лондоне в декабре 1868 года и предназначался для транспортных средств, что облегчало переход пешеходов через улицу. В январе 1869 года устройство взорвалось, ранив полицейского, и эта идея регулирования движения была реализована впоследствии только через 40 лет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2880" indent="4572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эксплуатация первого светофора началась 15 января 1930 года в Ленинграде, а в декабре того же года первый светофор заработал в Москве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2880" indent="45720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45720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500040" y="1356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сны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гнал, в том числе мигающий (два мигающих красных сигнала), запрещает движение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indent="452520" algn="just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елтый</a:t>
            </a:r>
            <a:r>
              <a:rPr b="0" lang="ru-RU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сигнал предупреждает о предстоящей смене сигналов и запрещает движение, кроме случаев, указанных в подпунктах </a:t>
            </a:r>
            <a:r>
              <a:rPr b="0" lang="ru-RU" sz="2200" spc="-1" strike="noStrike" u="sng">
                <a:solidFill>
                  <a:srgbClr val="0080ff"/>
                </a:solidFill>
                <a:uFillTx/>
                <a:latin typeface="Times New Roman"/>
                <a:ea typeface="Times New Roman"/>
                <a:hlinkClick r:id="rId1"/>
              </a:rPr>
              <a:t>50.1</a:t>
            </a:r>
            <a:r>
              <a:rPr b="0" lang="ru-RU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 u="sng">
                <a:solidFill>
                  <a:srgbClr val="0080ff"/>
                </a:solidFill>
                <a:uFillTx/>
                <a:latin typeface="Times New Roman"/>
                <a:ea typeface="Times New Roman"/>
                <a:hlinkClick r:id="rId2"/>
              </a:rPr>
              <a:t>50.2</a:t>
            </a:r>
            <a:r>
              <a:rPr b="0" lang="ru-RU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пункта </a:t>
            </a:r>
            <a:r>
              <a:rPr b="0" lang="ru-RU" sz="2200" spc="-1" strike="noStrike" u="sng">
                <a:solidFill>
                  <a:srgbClr val="0080ff"/>
                </a:solidFill>
                <a:uFillTx/>
                <a:latin typeface="Times New Roman"/>
                <a:ea typeface="Times New Roman"/>
                <a:hlinkClick r:id="rId3"/>
              </a:rPr>
              <a:t>50</a:t>
            </a:r>
            <a:r>
              <a:rPr b="0" lang="ru-RU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и пункте </a:t>
            </a:r>
            <a:r>
              <a:rPr b="0" lang="ru-RU" sz="2200" spc="-1" strike="noStrike" u="sng">
                <a:solidFill>
                  <a:srgbClr val="0080ff"/>
                </a:solidFill>
                <a:uFillTx/>
                <a:latin typeface="Times New Roman"/>
                <a:ea typeface="Times New Roman"/>
                <a:hlinkClick r:id="rId4"/>
              </a:rPr>
              <a:t>106</a:t>
            </a:r>
            <a:r>
              <a:rPr b="0" lang="ru-RU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настоящих Правил. Желтый мигающий сигнал разрешает движение и информирует о наличии нерегулируемого перекрестка или пешеходного перехода, предупреждает о возможной </a:t>
            </a:r>
            <a:r>
              <a:rPr b="0" lang="ru-RU" sz="2200" spc="-1" strike="noStrike" u="sng">
                <a:solidFill>
                  <a:srgbClr val="0080ff"/>
                </a:solidFill>
                <a:uFillTx/>
                <a:latin typeface="Times New Roman"/>
                <a:ea typeface="Times New Roman"/>
                <a:hlinkClick r:id="rId5"/>
              </a:rPr>
              <a:t>опасности для движения</a:t>
            </a:r>
            <a:r>
              <a:rPr b="0" lang="ru-RU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indent="452520" algn="just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еленый</a:t>
            </a:r>
            <a:r>
              <a:rPr b="0" lang="ru-RU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сигнал разрешает движение. Зеленый мигающий сигнал разрешает движение и информирует, что время его действия истекает и вскоре будет включен запрещающий сигнал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18352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no Pro Light Display"/>
              </a:rPr>
              <a:t>Сигналы светофора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1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1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03280" y="529920"/>
            <a:ext cx="8183520" cy="30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фор для пешеходо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светофоры регулируют движение пешеходов через пешеходный переход. Как правило, он имеет два вида сигналов: разрешающий и запрещающий. Обычно для этой цели используют соответственно зелёный и красный свет. Сами сигналы имеют различную форму. Чаще всего используют сигналы в виде силуэта человека: красный — стоящего, зелёный — идущего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dobe Garamond Pro"/>
              </a:rPr>
              <a:t>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4" name="Рисунок 5" descr="Описание: http://im6-tub-ru.yandex.net/i?id=167285949-58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560" y="3492360"/>
            <a:ext cx="1225800" cy="2183040"/>
          </a:xfrm>
          <a:prstGeom prst="rect">
            <a:avLst/>
          </a:prstGeom>
          <a:ln w="0">
            <a:noFill/>
          </a:ln>
        </p:spPr>
      </p:pic>
      <p:pic>
        <p:nvPicPr>
          <p:cNvPr id="345" name="i-main-pic" descr="Описание: Картинка 6 из 124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94040" y="3492360"/>
            <a:ext cx="1083960" cy="2243160"/>
          </a:xfrm>
          <a:prstGeom prst="rect">
            <a:avLst/>
          </a:prstGeom>
          <a:ln w="0">
            <a:noFill/>
          </a:ln>
        </p:spPr>
      </p:pic>
      <p:pic>
        <p:nvPicPr>
          <p:cNvPr id="346" name="i-main-pic" descr="Описание: Картинка 51 из 1248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6880" y="3279600"/>
            <a:ext cx="1054080" cy="2444760"/>
          </a:xfrm>
          <a:prstGeom prst="rect">
            <a:avLst/>
          </a:prstGeom>
          <a:ln w="0">
            <a:noFill/>
          </a:ln>
        </p:spPr>
      </p:pic>
      <p:pic>
        <p:nvPicPr>
          <p:cNvPr id="347" name="i-main-pic" descr="Описание: Картинка 61 из 1248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48240" y="3352680"/>
            <a:ext cx="1955880" cy="2371680"/>
          </a:xfrm>
          <a:prstGeom prst="rect">
            <a:avLst/>
          </a:prstGeom>
          <a:ln w="0">
            <a:noFill/>
          </a:ln>
        </p:spPr>
      </p:pic>
      <p:pic>
        <p:nvPicPr>
          <p:cNvPr id="348" name="i-main-pic" descr="Описание: Картинка 118 из 12486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924600" y="3352680"/>
            <a:ext cx="1225800" cy="2365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503280" y="530280"/>
            <a:ext cx="8183520" cy="22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ветофор для велосипедистов</a:t>
            </a:r>
            <a:endParaRPr b="0" lang="en-US" sz="2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гулирования движения велосипедов иногда применяют специальные светофоры. Это может быть светофор, сигналы которого выполнены в форме силуэта велосипеда, или обычный трехцветный светофор, снабженный специальной табличко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3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3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dobe Garamond Pro"/>
              </a:rPr>
              <a:t>  </a:t>
            </a: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27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0" name="i-main-pic" descr="Описание: Картинка 4 из 15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06400" y="2639880"/>
            <a:ext cx="1725840" cy="3170520"/>
          </a:xfrm>
          <a:prstGeom prst="rect">
            <a:avLst/>
          </a:prstGeom>
          <a:ln w="0">
            <a:noFill/>
          </a:ln>
        </p:spPr>
      </p:pic>
      <p:pic>
        <p:nvPicPr>
          <p:cNvPr id="351" name="i-main-pic" descr="Описание: Картинка 21 из 155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2800" y="2639880"/>
            <a:ext cx="1584000" cy="317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503280" y="530280"/>
            <a:ext cx="818352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еверсивный светофор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гулирования движения по полосам проезжей части (особенно там, где возможно реверсивное движение), применяют специальные светофоры контроля полосы (реверсивные). Такие светофоры могут иметь два или три сигнала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й Х-образный сигнал запрещает движение по полосе;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ая стрелка, направленная вниз, разрешает движение;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й сигнал в виде диагональной желтой стрелки информирует о смене режима работы полосы и указывает направление, в котором её необходимо покинуть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Adobe Garamond Pro"/>
              </a:rPr>
              <a:t> 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3" name="i-main-pic" descr="Описание: Картинка 14 из 4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6640" y="3852720"/>
            <a:ext cx="4176720" cy="1438560"/>
          </a:xfrm>
          <a:prstGeom prst="rect">
            <a:avLst/>
          </a:prstGeom>
          <a:ln w="0">
            <a:noFill/>
          </a:ln>
        </p:spPr>
      </p:pic>
      <p:pic>
        <p:nvPicPr>
          <p:cNvPr id="354" name="i-main-pic" descr="Описание: Картинка 20 из 47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92880" y="3852720"/>
            <a:ext cx="2869920" cy="1322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503280" y="530280"/>
            <a:ext cx="81835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мвайный светофор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26440" indent="-226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мвайные светофоры предназначены для регулирования движения трамваев. Обычно устанавливаются перед участками с ограниченной видимостью, перед затяжными подъёмами, спусками, на въезде/выезде трамвайных депо, а также перед трамвайными стрелками. Обычно трамвайные светофоры имеют 2 сигнала: красный и зеленый. Устанавливаются в основном либо справа от трамвайного пути, либо по центру над ним выше контактного провода. Основное предназначение трамвайных светофоров состоит в том, чтобы сигнализировать водителям трамваев о занятости следующей за светофором части трамвайного пути. Действие трамвайных светофоров распространяется только на трамваи. Светофоры такого типа работают в автоматическом режиме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26440" indent="-22644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26440" indent="-22644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Adobe Garamond Pro"/>
              </a:rPr>
              <a:t>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26440" indent="-22644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6" name="i-main-pic" descr="Описание: Картинка 3 из 21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780000"/>
            <a:ext cx="2651400" cy="1998360"/>
          </a:xfrm>
          <a:prstGeom prst="rect">
            <a:avLst/>
          </a:prstGeom>
          <a:ln w="0">
            <a:noFill/>
          </a:ln>
        </p:spPr>
      </p:pic>
      <p:pic>
        <p:nvPicPr>
          <p:cNvPr id="357" name="i-main-pic" descr="Описание: Картинка 51 из 213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38640" y="3706920"/>
            <a:ext cx="1816200" cy="208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4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6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03280" y="529920"/>
            <a:ext cx="8183520" cy="30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фор, устанавливаемый на железнодорожных переездах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из двух горизонтально расположенных красных фонарей и, на части переездов, одного фонаря лунно-белого цвета. Белый фонарь расположен между красными, ниже или выше соединяющей их линии. Значение сигналов следующее: два попеременно мигающих красных фонаря — движение через переезд запрещено; данный сигнал обычно сопровождается звуковой сигнализацией (звонком);  мигающий белый фонарь означает, что техническая система переезда находится в исправности. Так как он не горит, когда переезд закрыт или закрывается, бело-лунный фонарь часто неправильно считают разрешающим сигналом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Adobe Garamond Pro"/>
              </a:rPr>
              <a:t> 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9" name="i-main-pic" descr="Описание: Картинка 62 из 17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3600" y="3638520"/>
            <a:ext cx="1968840" cy="2798640"/>
          </a:xfrm>
          <a:prstGeom prst="rect">
            <a:avLst/>
          </a:prstGeom>
          <a:ln w="0">
            <a:noFill/>
          </a:ln>
        </p:spPr>
      </p:pic>
      <p:pic>
        <p:nvPicPr>
          <p:cNvPr id="360" name="i-main-pic" descr="Описание: Картинка 125 из 579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5480" y="3925800"/>
            <a:ext cx="3713400" cy="2011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1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1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503280" y="529920"/>
            <a:ext cx="8183520" cy="32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нодорожный светофор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нодорожные светофоры предназначены для регулирования движения поездов, маневровых составов:• красный — проезд запрещён; • жёлтый — проезд разрешён с ограничением скорости; • зелёный — проезд разрешён. Также светофоры или дополнительные световые указатели могут информировать машиниста о маршруте или как-либо ещё конкретизировать показани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dobe Garamond Pro"/>
              </a:rPr>
              <a:t>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2" name="i-main-pic" descr="Описание: Картинка 17 из 5798"/>
          <p:cNvPicPr/>
          <p:nvPr/>
        </p:nvPicPr>
        <p:blipFill>
          <a:blip r:embed="rId1"/>
          <a:stretch/>
        </p:blipFill>
        <p:spPr>
          <a:xfrm>
            <a:off x="853920" y="3638520"/>
            <a:ext cx="1870200" cy="2513160"/>
          </a:xfrm>
          <a:prstGeom prst="rect">
            <a:avLst/>
          </a:prstGeom>
          <a:ln w="0">
            <a:noFill/>
          </a:ln>
        </p:spPr>
      </p:pic>
      <p:pic>
        <p:nvPicPr>
          <p:cNvPr id="363" name="i-main-pic" descr="Описание: Картинка 131 из 5798"/>
          <p:cNvPicPr/>
          <p:nvPr/>
        </p:nvPicPr>
        <p:blipFill>
          <a:blip r:embed="rId2"/>
          <a:stretch/>
        </p:blipFill>
        <p:spPr>
          <a:xfrm>
            <a:off x="3852720" y="3706920"/>
            <a:ext cx="798480" cy="2382840"/>
          </a:xfrm>
          <a:prstGeom prst="rect">
            <a:avLst/>
          </a:prstGeom>
          <a:ln w="0">
            <a:noFill/>
          </a:ln>
        </p:spPr>
      </p:pic>
      <p:pic>
        <p:nvPicPr>
          <p:cNvPr id="364" name="i-main-pic" descr="Описание: Картинка 579 из 5798"/>
          <p:cNvPicPr/>
          <p:nvPr/>
        </p:nvPicPr>
        <p:blipFill>
          <a:blip r:embed="rId3"/>
          <a:stretch/>
        </p:blipFill>
        <p:spPr>
          <a:xfrm>
            <a:off x="5711760" y="3638520"/>
            <a:ext cx="1152720" cy="2476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77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770" fill="hold"/>
                                        <p:tgtEl>
                                          <p:spTgt spid="3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8:47:49Z</dcterms:created>
  <dc:creator>User</dc:creator>
  <dc:description/>
  <dc:language>en-US</dc:language>
  <cp:lastModifiedBy>Admin</cp:lastModifiedBy>
  <dcterms:modified xsi:type="dcterms:W3CDTF">2021-04-16T08:52:19Z</dcterms:modified>
  <cp:revision>41</cp:revision>
  <dc:subject/>
  <dc:title>Классификация транспорта</dc:title>
</cp:coreProperties>
</file>