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30.png" ContentType="image/png"/>
  <Override PartName="/ppt/media/image1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051D-9C65-4482-99EC-2CA3FCA35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AAC4-40D1-4BFD-918D-7D0E9AD7A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1E1-7F0F-4E69-B700-EB253CE7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4BB-434D-4805-9C3B-3766E847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AA8-1D03-4789-BE7B-223B5D40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F62-4D1F-4F79-A799-BD53A1E1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9911-81A9-4DEA-BBE0-0E3698A3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E066-CB84-4F00-9C0C-06EA52D3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2DBC-2849-43A0-9326-89D01981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C07D-5EB8-4090-A74E-B285CBE5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5262-84CD-4B10-B451-6E77CACD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078B-59C9-47C1-B89A-17E63E9E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18BD-1766-4645-8F60-C5DF2644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577-B9F0-4252-B734-23D37F48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8B0B-4903-4971-998B-E85D0DF9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114E-4CD0-4201-B86C-0DF53AC0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8480-D86D-4BF4-808A-A91996FC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8F45-55EB-4EA5-AC93-3A12EF4B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FCCE-92FD-40CE-8822-8B614D48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BFB4-417B-49D2-8D3A-19C2E9DC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DB75-7815-452C-8A57-090DE47B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2DB0-CEA3-4180-A329-DD5D4083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3FB9-4C1B-4249-9AB5-311D3779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009AA-C31F-479F-8C52-952F0DAD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9DD-E711-4547-8A8E-1585FAEC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5ED2-BD11-455A-95BC-2A72340F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4A45-8CA3-4760-BC78-1BFE3D99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0570-DED9-4B5B-BBA2-1919FDF4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EB8D-1F3E-49A1-8E0B-C48F32A6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D9D7-6A0D-442D-81BE-A18F11E0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0036D-F199-4F9C-B6C8-1D300B97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E11A-88AC-4101-A403-5BC243F9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3CF3E-F317-4D77-8702-1396CDB5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5B1A8-5E88-4463-9552-EC1CCD9F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7667-0F6E-423C-BE05-0FBF59B3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1F1-EB5B-4907-AD3E-6CA76173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7F8A-2ECB-4F37-A4A9-46876B4B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E1B9F-0AB8-446B-ADDD-97B437EC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68C54-6AE6-4083-8FDC-8F9C5327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DA3C4-7784-4BAD-AD7B-CB322D27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A565-DCE3-4099-B0B4-CA215E07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EAD3-38BD-412D-86C7-0A4EF686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50692-B9B2-4F5D-AF07-650B332E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8DF9-B202-4E17-9CDE-3F33A5F4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8419F-A9E4-46C4-BF20-AB4B9C54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9E9-486A-4210-AC94-638CCABA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061-751A-4ABC-97C1-406155C6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ED5-1E7D-417A-8B0F-04840A7F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160-323D-4EB8-980B-8E159B81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3B4-0F51-49E6-9B2D-8FD15D2A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16CB-475C-456C-8D50-51E763C5710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AF4C-DD46-4BA6-881C-1C4C54DBE69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B47B-58DC-4090-BAB1-8E3382190F3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5E7B-95C8-432B-B43A-7C7200E83F2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684360" y="170028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зочные системы двигател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ддоны  картера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рытообразн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рытообразного комбинированны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Содержимое 13" descr="untitled.png"/>
          <p:cNvPicPr/>
          <p:nvPr/>
        </p:nvPicPr>
        <p:blipFill>
          <a:blip r:embed="rId1"/>
          <a:stretch/>
        </p:blipFill>
        <p:spPr>
          <a:xfrm>
            <a:off x="139680" y="1876320"/>
            <a:ext cx="4040280" cy="1554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675400" y="2232000"/>
            <a:ext cx="1560600" cy="27655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8"/>
          <p:cNvSpPr/>
          <p:nvPr/>
        </p:nvSpPr>
        <p:spPr>
          <a:xfrm>
            <a:off x="6948360" y="2565360"/>
            <a:ext cx="250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отражатель мас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верхняя часть поддон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нижняя часть подд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4" descr="489009.jpg"/>
          <p:cNvPicPr/>
          <p:nvPr/>
        </p:nvPicPr>
        <p:blipFill>
          <a:blip r:embed="rId3"/>
          <a:stretch/>
        </p:blipFill>
        <p:spPr>
          <a:xfrm>
            <a:off x="2700360" y="3213000"/>
            <a:ext cx="2663640" cy="16336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5" descr="van-wezel-oelwanne-0623070-78646-0.jpg"/>
          <p:cNvPicPr/>
          <p:nvPr/>
        </p:nvPicPr>
        <p:blipFill>
          <a:blip r:embed="rId4"/>
          <a:stretch/>
        </p:blipFill>
        <p:spPr>
          <a:xfrm>
            <a:off x="324000" y="4581360"/>
            <a:ext cx="29509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2848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кладка</a:t>
            </a: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сляного</a:t>
            </a: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ддона</a:t>
            </a: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Содержимое 15" descr="54322.png"/>
          <p:cNvPicPr/>
          <p:nvPr/>
        </p:nvPicPr>
        <p:blipFill>
          <a:blip r:embed="rId1"/>
          <a:stretch/>
        </p:blipFill>
        <p:spPr>
          <a:xfrm>
            <a:off x="250920" y="1557360"/>
            <a:ext cx="2808360" cy="146844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6" descr="media.jpg"/>
          <p:cNvPicPr/>
          <p:nvPr/>
        </p:nvPicPr>
        <p:blipFill>
          <a:blip r:embed="rId2"/>
          <a:stretch/>
        </p:blipFill>
        <p:spPr>
          <a:xfrm>
            <a:off x="468360" y="321300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7" descr="802087.jpg"/>
          <p:cNvPicPr/>
          <p:nvPr/>
        </p:nvPicPr>
        <p:blipFill>
          <a:blip r:embed="rId3"/>
          <a:stretch/>
        </p:blipFill>
        <p:spPr>
          <a:xfrm>
            <a:off x="3348000" y="1484280"/>
            <a:ext cx="3697200" cy="22194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8" descr="703122600.jpg"/>
          <p:cNvPicPr/>
          <p:nvPr/>
        </p:nvPicPr>
        <p:blipFill>
          <a:blip r:embed="rId4"/>
          <a:stretch/>
        </p:blipFill>
        <p:spPr>
          <a:xfrm>
            <a:off x="900000" y="5157720"/>
            <a:ext cx="3881520" cy="13003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9" descr="326799.png"/>
          <p:cNvPicPr/>
          <p:nvPr/>
        </p:nvPicPr>
        <p:blipFill>
          <a:blip r:embed="rId5"/>
          <a:stretch/>
        </p:blipFill>
        <p:spPr>
          <a:xfrm>
            <a:off x="4643280" y="3429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0" descr="60860.png"/>
          <p:cNvPicPr/>
          <p:nvPr/>
        </p:nvPicPr>
        <p:blipFill>
          <a:blip r:embed="rId6"/>
          <a:stretch/>
        </p:blipFill>
        <p:spPr>
          <a:xfrm>
            <a:off x="5364000" y="5084640"/>
            <a:ext cx="28083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слозаборник с сетчатым фильтро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Содержимое 3" descr="781.jpg"/>
          <p:cNvPicPr/>
          <p:nvPr/>
        </p:nvPicPr>
        <p:blipFill>
          <a:blip r:embed="rId1"/>
          <a:stretch/>
        </p:blipFill>
        <p:spPr>
          <a:xfrm>
            <a:off x="324000" y="1557360"/>
            <a:ext cx="3716280" cy="27860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1268.jpg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5" descr="2205.jpg"/>
          <p:cNvPicPr/>
          <p:nvPr/>
        </p:nvPicPr>
        <p:blipFill>
          <a:blip r:embed="rId3"/>
          <a:stretch/>
        </p:blipFill>
        <p:spPr>
          <a:xfrm>
            <a:off x="3203640" y="4427640"/>
            <a:ext cx="32400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сляный насос</a:t>
            </a: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для создания необходимого давления в системе смазки и подачи масла к трущимся поверхностям. Масляный насос может иметь привод от коленчатого вала, распределительного вала или дополнительного приводного ва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сляные насос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одержимое 3" descr="03.gif"/>
          <p:cNvPicPr/>
          <p:nvPr/>
        </p:nvPicPr>
        <p:blipFill>
          <a:blip r:embed="rId1"/>
          <a:stretch/>
        </p:blipFill>
        <p:spPr>
          <a:xfrm>
            <a:off x="250920" y="3213000"/>
            <a:ext cx="2427120" cy="262584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4"/>
          <p:cNvSpPr/>
          <p:nvPr/>
        </p:nvSpPr>
        <p:spPr>
          <a:xfrm>
            <a:off x="46836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наружном зацепл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5" descr="04.gif"/>
          <p:cNvPicPr/>
          <p:nvPr/>
        </p:nvPicPr>
        <p:blipFill>
          <a:blip r:embed="rId2"/>
          <a:stretch/>
        </p:blipFill>
        <p:spPr>
          <a:xfrm>
            <a:off x="2916360" y="3789360"/>
            <a:ext cx="2616120" cy="19620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6"/>
          <p:cNvSpPr/>
          <p:nvPr/>
        </p:nvSpPr>
        <p:spPr>
          <a:xfrm>
            <a:off x="2783160" y="24210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нутренни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епл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7" descr="05.gif"/>
          <p:cNvPicPr/>
          <p:nvPr/>
        </p:nvPicPr>
        <p:blipFill>
          <a:blip r:embed="rId3"/>
          <a:stretch/>
        </p:blipFill>
        <p:spPr>
          <a:xfrm>
            <a:off x="5940360" y="3933720"/>
            <a:ext cx="2916360" cy="218124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8"/>
          <p:cNvSpPr/>
          <p:nvPr/>
        </p:nvSpPr>
        <p:spPr>
          <a:xfrm>
            <a:off x="6310800" y="278136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нчат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иберный) нас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сляные насос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дносекционны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вухсекционны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033720" cy="243504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11" descr="maslyanyi-nasos-radiator-dvigatelya-avtomobilya-zil-130-37.jpg"/>
          <p:cNvPicPr/>
          <p:nvPr/>
        </p:nvPicPr>
        <p:blipFill>
          <a:blip r:embed="rId2"/>
          <a:stretch/>
        </p:blipFill>
        <p:spPr>
          <a:xfrm>
            <a:off x="5796000" y="2001960"/>
            <a:ext cx="2467080" cy="30970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2" descr="19619.jpg"/>
          <p:cNvPicPr/>
          <p:nvPr/>
        </p:nvPicPr>
        <p:blipFill>
          <a:blip r:embed="rId3"/>
          <a:stretch/>
        </p:blipFill>
        <p:spPr>
          <a:xfrm>
            <a:off x="826920" y="4797360"/>
            <a:ext cx="1800360" cy="17226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3" descr="01.jpg"/>
          <p:cNvPicPr/>
          <p:nvPr/>
        </p:nvPicPr>
        <p:blipFill>
          <a:blip r:embed="rId4"/>
          <a:stretch/>
        </p:blipFill>
        <p:spPr>
          <a:xfrm>
            <a:off x="3276720" y="4778280"/>
            <a:ext cx="165708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Устройство масляного нас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Содержимое 9" descr="shema_oilpump_gear.jpg"/>
          <p:cNvPicPr/>
          <p:nvPr/>
        </p:nvPicPr>
        <p:blipFill>
          <a:blip r:embed="rId1"/>
          <a:stretch/>
        </p:blipFill>
        <p:spPr>
          <a:xfrm>
            <a:off x="324000" y="2421000"/>
            <a:ext cx="4038480" cy="3068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едомая шестерн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асывающий кана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едущая шестер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водной ва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гнетательный кана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сь ведомой шестер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-3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яные фильтры предназначены для очистки масла, циркулирующего в системе смаз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истему смазки они могут включаться последовательно и параллельно. При последовательном включении фильтра через его фильтрующий элемент проходит все масло, подаваемое масляным насосом. Такие фильтры называют полнопоточными. При параллельном включении фильтра через его фильтрующий элемент проходит только 10-15% масла, подаваемого масляным насосом. Такие фильтры называют неполнопоточны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250920" y="47628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трующие элементы масляных фильтров автомобильных двигателей могут быть сетчатыми, пластинчато-щелевыми, бумажными, центробежными. Сетчатые фильтры устанавливаются в маслозаборниках и очищают масло от грубых частиц, которые могли бы повредить приборы смазки или ускорить их износ, а также износ трущихся поверхностей двигател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сляный фильт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Содержимое 4" descr="masljanyj-fil'tr-v-razreze.png"/>
          <p:cNvPicPr/>
          <p:nvPr/>
        </p:nvPicPr>
        <p:blipFill>
          <a:blip r:embed="rId1"/>
          <a:stretch/>
        </p:blipFill>
        <p:spPr>
          <a:xfrm>
            <a:off x="324000" y="1341360"/>
            <a:ext cx="3306600" cy="3240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входные отверстия для мас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выходное отверсти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  - корпус масляного фильтр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фильтрующий элемен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пружи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перепускной клапа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обратный клапа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уплотнительное кольц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Рисунок 5" descr="masljanyj-fil'tr.png"/>
          <p:cNvPicPr/>
          <p:nvPr/>
        </p:nvPicPr>
        <p:blipFill>
          <a:blip r:embed="rId2"/>
          <a:stretch/>
        </p:blipFill>
        <p:spPr>
          <a:xfrm>
            <a:off x="1042920" y="4365720"/>
            <a:ext cx="206064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истема смазки</a:t>
            </a: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276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а для снижения трения между сопряженными деталями двигател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066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         </a:t>
            </a: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хемы центрифу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Содержимое 4" descr="9a90ca871a987447269341f278209314.png"/>
          <p:cNvPicPr/>
          <p:nvPr/>
        </p:nvPicPr>
        <p:blipFill>
          <a:blip r:embed="rId1"/>
          <a:stretch/>
        </p:blipFill>
        <p:spPr>
          <a:xfrm>
            <a:off x="250920" y="2133720"/>
            <a:ext cx="4179960" cy="3477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647960" y="1599840"/>
            <a:ext cx="4244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реактивно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полнопоточной активно-реактивно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ротор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механические примеси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ось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- маслозаборная трубк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 маслоотводящий канал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- жиклер (форсунка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- корпус ротор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 насадок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- пустотелая ось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- маслоотводящая трубк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корпус фильтр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Б - каналы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- кольцевая пол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хема полнопоточного  активно-реактивного , масляного фильтр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7" descr="6ebd7da90f6133d913b829ee03f54a88.png"/>
          <p:cNvPicPr/>
          <p:nvPr/>
        </p:nvPicPr>
        <p:blipFill>
          <a:blip r:embed="rId1"/>
          <a:stretch/>
        </p:blipFill>
        <p:spPr>
          <a:xfrm>
            <a:off x="250920" y="1600200"/>
            <a:ext cx="3816360" cy="51004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00720" y="1599840"/>
            <a:ext cx="446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маслоотводящая трубка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трубка охлажденного в радиаторе масла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трубка отвода горячего масла в радиатор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- радиаторный клапан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6 - каналы отвода очищенного неохлажденного и охлажденного масла в магистраль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- канал подвода неочищенного масла в фильтр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 сливной клапан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 полость слива масла в картер двигателя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- регулировочные винты клапанов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корпус фильтра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 перепускной клан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- пустотелая ось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- крышка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- насадок (завихритель масла)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- корпус ротора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- стакан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- упорная шайба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- колпа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лапаны системы смаз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0920" y="1268280"/>
            <a:ext cx="4038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онный клапан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ит для поддержания постоянного давления в определенной магистрали смазочной системы (главная масляная, фильтра центробежной очистки масла и др.). Чаще всего для этих целей используют редукционные клапаны плунжерного типа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2920" y="1268280"/>
            <a:ext cx="40388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хранительные клапан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щищают смазочную систему или отдельные ее агрегаты (насосы, фильтры) от чрезмерного повышения давления. При повышении давления выше заданного масло сливается в картер двигателя.</a:t>
            </a:r>
            <a:br>
              <a:rPr sz="1900"/>
            </a:br>
            <a:br>
              <a:rPr sz="2400"/>
            </a:b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247680" y="3633840"/>
            <a:ext cx="41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вные клапа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ют определенное гидравлическое сопротивление при сливе масла и тем самым поддерживают необходимое давление в главной масляной магистрали смазочной системы двигателя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4356000" y="3168720"/>
            <a:ext cx="457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ускные клапан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ют поток масла из нагнетающей во всасывающую секцию масляного насоса или из одной секции в другую (для двухсекционных масляных насосов), в главную масляную магистраль, минуя масляный фильтр при его загрязнении, и т. д. Они препятствуют чрезмерному повышению давления в смазочной системе при неисправностях агрегатов системы или изменении свойств масла (повышенной вязкости, загустении масла при понижен­ной температуре и др.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истема смазки обеспечивает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лаждение деталей двигателя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ие продуктов нагара и износа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у деталей двигателя от коррози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 способу подачи масла к трущимся деталям система смазки разделяют 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мазки с подачей масла разбрызгиванием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мазки с непрерывной подачей масла под давлением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мазки с подачей масла комбинированным способом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истема смазки подачей масла разбрызгивани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зка деталей при вращении двигателя осуществляется кривошипными головками шатунов, имеющими специальные черпаки. Данный способ смазки деталей двигателя имеет следующий недостаток: интенсивность смазки зависит от уровня масла в поддоне картера и от угла наклона поддона картера. Поэтому система смазки подачей масла при помощи разбрызгивания не получила широкого распространения несмотря на свою простот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истема смазки с непрерывной подачей масла под давлени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й системе все детали смазываются под давлением, нагнетаемым масляным насосом. Система смазки под давлением лишена недостатков предыдущей системы смазки, но очень сложна в изготовлении и эксплуатации, широкого применения данная система не получи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мбинированная система 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мазки</a:t>
            </a: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нагруженные детали двигателя смазываются под давлением, менее нагруженные детали смазываются разбрызгиванием. Данная система смазки получила широкое распространение. Существует два типа комбинированной системы смазки: с сухим и мокрым картер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хема смазочной системы двигателя с мокрым картеро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4" descr="Tipichnaya-shema-smazochnoj-sistemy-dvigatelya-s-mokry-m-karterom.jpg"/>
          <p:cNvPicPr/>
          <p:nvPr/>
        </p:nvPicPr>
        <p:blipFill>
          <a:blip r:embed="rId1"/>
          <a:stretch/>
        </p:blipFill>
        <p:spPr>
          <a:xfrm>
            <a:off x="179280" y="2060640"/>
            <a:ext cx="4038840" cy="3681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067280" y="1600200"/>
            <a:ext cx="507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фильтр тонкой очистки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маслоналивная горловина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полая ось коромысел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- перепускной клапан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 фильтр грубой очистк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- указатель давления масла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 14 - маслопроводы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 подшипник, распределительного вала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- шатунный подшипник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- коренной подшипник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- масляный поддон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- указатель уровня масла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- маслоприемник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- клапан подачи масла к радиатору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- масляный насос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- редукционный клапан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- кран включения радиатора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- масляный радиатор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- распределительные шестерн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ддон картера</a:t>
            </a: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резервуаром для масла. Он закрывает двигатель снизу, и в нем масло охлаждается. Внутри поддона имеется специальная перегородка, уменьшающая колебания масла при движении автомобиля. Поддон крепится к нижнему торцу блока цилиндров (к картеру) через уплотнительную прокладку, изготовленную из пробкорезиновой смеси. Он имеет резьбовое отверстие с пробкой, предназначенное для слива масл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8:05:31Z</dcterms:created>
  <dc:creator>Николаевич</dc:creator>
  <dc:description/>
  <dc:language>en-US</dc:language>
  <cp:lastModifiedBy>Admin</cp:lastModifiedBy>
  <dcterms:modified xsi:type="dcterms:W3CDTF">2020-02-07T08:22:11Z</dcterms:modified>
  <cp:revision>106</cp:revision>
  <dc:subject/>
  <dc:title>Слайд 1</dc:title>
</cp:coreProperties>
</file>